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03EA-16D4-4C5F-B737-D43CB9AA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FEA-E388-41C3-9F1C-D2A3109F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3CD-56A5-4311-8CB9-6493EC4F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423-ABA2-4FF4-8243-7475256D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EB14-ACB7-480D-8225-A86B9A77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FF93-6D72-4D7F-99BE-B6A4F73C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CA1F-07FA-4459-986A-77500439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0A6-5654-4F85-86FC-C1620A16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429-8B1C-4A18-A0C7-7C7EFF7F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962-6694-403B-A11B-1432BCED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16D-E41B-41D3-A7C7-8FDBF7F0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9BC-EC34-41EB-9631-22675123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867C-409F-41F9-BBF3-473256B4C277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33880" y="669960"/>
            <a:ext cx="831960" cy="27000"/>
          </a:xfrm>
          <a:custGeom>
            <a:avLst/>
            <a:gdLst/>
            <a:ahLst/>
            <a:rect l="l" t="t" r="r" b="b"/>
            <a:pathLst>
              <a:path w="2307" h="76">
                <a:moveTo>
                  <a:pt x="11485" y="1885"/>
                </a:moveTo>
                <a:cubicBezTo>
                  <a:pt x="11534" y="1891"/>
                  <a:pt x="11541" y="1891"/>
                  <a:pt x="11584" y="1910"/>
                </a:cubicBezTo>
                <a:cubicBezTo>
                  <a:pt x="11636" y="1933"/>
                  <a:pt x="11642" y="1935"/>
                  <a:pt x="11708" y="1935"/>
                </a:cubicBezTo>
                <a:cubicBezTo>
                  <a:pt x="12057" y="1935"/>
                  <a:pt x="12435" y="1967"/>
                  <a:pt x="12774" y="1910"/>
                </a:cubicBezTo>
                <a:cubicBezTo>
                  <a:pt x="12837" y="1899"/>
                  <a:pt x="12909" y="1910"/>
                  <a:pt x="12973" y="1910"/>
                </a:cubicBezTo>
                <a:cubicBezTo>
                  <a:pt x="12997" y="1895"/>
                  <a:pt x="12995" y="1888"/>
                  <a:pt x="13047" y="1885"/>
                </a:cubicBezTo>
                <a:cubicBezTo>
                  <a:pt x="13151" y="1879"/>
                  <a:pt x="13254" y="1875"/>
                  <a:pt x="13345" y="1860"/>
                </a:cubicBezTo>
                <a:cubicBezTo>
                  <a:pt x="13485" y="1837"/>
                  <a:pt x="13649" y="1860"/>
                  <a:pt x="13791" y="1860"/>
                </a:cubicBezTo>
              </a:path>
            </a:pathLst>
          </a:custGeom>
          <a:noFill/>
          <a:ln cap="sq" w="228600">
            <a:solidFill>
              <a:srgbClr val="ff00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05160" y="660240"/>
            <a:ext cx="760680" cy="19080"/>
          </a:xfrm>
          <a:custGeom>
            <a:avLst/>
            <a:gdLst/>
            <a:ahLst/>
            <a:rect l="l" t="t" r="r" b="b"/>
            <a:pathLst>
              <a:path w="2109" h="50">
                <a:moveTo>
                  <a:pt x="11683" y="1836"/>
                </a:moveTo>
                <a:cubicBezTo>
                  <a:pt x="11707" y="1846"/>
                  <a:pt x="11733" y="1850"/>
                  <a:pt x="11757" y="1860"/>
                </a:cubicBezTo>
                <a:cubicBezTo>
                  <a:pt x="11781" y="1874"/>
                  <a:pt x="11779" y="1882"/>
                  <a:pt x="11832" y="1885"/>
                </a:cubicBezTo>
                <a:cubicBezTo>
                  <a:pt x="11906" y="1889"/>
                  <a:pt x="11981" y="1885"/>
                  <a:pt x="12055" y="1885"/>
                </a:cubicBezTo>
                <a:cubicBezTo>
                  <a:pt x="12079" y="1871"/>
                  <a:pt x="12077" y="1863"/>
                  <a:pt x="12129" y="1860"/>
                </a:cubicBezTo>
                <a:cubicBezTo>
                  <a:pt x="12187" y="1857"/>
                  <a:pt x="12245" y="1860"/>
                  <a:pt x="12303" y="1860"/>
                </a:cubicBezTo>
                <a:cubicBezTo>
                  <a:pt x="12326" y="1847"/>
                  <a:pt x="12327" y="1839"/>
                  <a:pt x="12378" y="1836"/>
                </a:cubicBezTo>
                <a:cubicBezTo>
                  <a:pt x="12446" y="1832"/>
                  <a:pt x="12496" y="1849"/>
                  <a:pt x="12551" y="1860"/>
                </a:cubicBezTo>
                <a:cubicBezTo>
                  <a:pt x="12590" y="1868"/>
                  <a:pt x="12614" y="1879"/>
                  <a:pt x="12650" y="1885"/>
                </a:cubicBezTo>
                <a:cubicBezTo>
                  <a:pt x="12812" y="1912"/>
                  <a:pt x="13024" y="1890"/>
                  <a:pt x="13171" y="1860"/>
                </a:cubicBezTo>
                <a:cubicBezTo>
                  <a:pt x="13361" y="1822"/>
                  <a:pt x="13597" y="1860"/>
                  <a:pt x="13791" y="1860"/>
                </a:cubicBezTo>
              </a:path>
            </a:pathLst>
          </a:custGeom>
          <a:noFill/>
          <a:ln cap="sq" w="228600">
            <a:solidFill>
              <a:srgbClr val="ff00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3240" y="704880"/>
            <a:ext cx="839880" cy="36360"/>
          </a:xfrm>
          <a:custGeom>
            <a:avLst/>
            <a:gdLst/>
            <a:ahLst/>
            <a:rect l="l" t="t" r="r" b="b"/>
            <a:pathLst>
              <a:path w="2333" h="100">
                <a:moveTo>
                  <a:pt x="11509" y="2009"/>
                </a:moveTo>
                <a:cubicBezTo>
                  <a:pt x="11542" y="2009"/>
                  <a:pt x="11576" y="2009"/>
                  <a:pt x="11609" y="2009"/>
                </a:cubicBezTo>
                <a:cubicBezTo>
                  <a:pt x="11634" y="1994"/>
                  <a:pt x="11630" y="1987"/>
                  <a:pt x="11683" y="1984"/>
                </a:cubicBezTo>
                <a:cubicBezTo>
                  <a:pt x="11716" y="1982"/>
                  <a:pt x="11749" y="1984"/>
                  <a:pt x="11782" y="1984"/>
                </a:cubicBezTo>
                <a:cubicBezTo>
                  <a:pt x="11805" y="1971"/>
                  <a:pt x="11808" y="1967"/>
                  <a:pt x="11857" y="1960"/>
                </a:cubicBezTo>
                <a:cubicBezTo>
                  <a:pt x="11883" y="1979"/>
                  <a:pt x="11856" y="1976"/>
                  <a:pt x="11906" y="1984"/>
                </a:cubicBezTo>
                <a:cubicBezTo>
                  <a:pt x="11921" y="2005"/>
                  <a:pt x="11916" y="2013"/>
                  <a:pt x="11931" y="2034"/>
                </a:cubicBezTo>
                <a:cubicBezTo>
                  <a:pt x="11964" y="2034"/>
                  <a:pt x="11997" y="2034"/>
                  <a:pt x="12030" y="2034"/>
                </a:cubicBezTo>
                <a:cubicBezTo>
                  <a:pt x="12054" y="2020"/>
                  <a:pt x="12052" y="2012"/>
                  <a:pt x="12105" y="2009"/>
                </a:cubicBezTo>
                <a:cubicBezTo>
                  <a:pt x="12151" y="2006"/>
                  <a:pt x="12164" y="2027"/>
                  <a:pt x="12204" y="2034"/>
                </a:cubicBezTo>
                <a:cubicBezTo>
                  <a:pt x="12301" y="2050"/>
                  <a:pt x="12415" y="2044"/>
                  <a:pt x="12502" y="2059"/>
                </a:cubicBezTo>
                <a:cubicBezTo>
                  <a:pt x="12828" y="2114"/>
                  <a:pt x="13212" y="2059"/>
                  <a:pt x="13543" y="2059"/>
                </a:cubicBezTo>
                <a:cubicBezTo>
                  <a:pt x="13558" y="2038"/>
                  <a:pt x="13552" y="2030"/>
                  <a:pt x="13568" y="2009"/>
                </a:cubicBezTo>
                <a:cubicBezTo>
                  <a:pt x="13618" y="2009"/>
                  <a:pt x="13667" y="2009"/>
                  <a:pt x="13717" y="2009"/>
                </a:cubicBezTo>
                <a:cubicBezTo>
                  <a:pt x="13741" y="1995"/>
                  <a:pt x="13739" y="1987"/>
                  <a:pt x="13791" y="1984"/>
                </a:cubicBezTo>
                <a:cubicBezTo>
                  <a:pt x="13816" y="1984"/>
                  <a:pt x="13824" y="1984"/>
                  <a:pt x="13841" y="1984"/>
                </a:cubicBezTo>
              </a:path>
            </a:pathLst>
          </a:custGeom>
          <a:noFill/>
          <a:ln cap="sq" w="228600">
            <a:solidFill>
              <a:srgbClr val="ff00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94120" y="187200"/>
            <a:ext cx="1473120" cy="125640"/>
          </a:xfrm>
          <a:custGeom>
            <a:avLst/>
            <a:gdLst/>
            <a:ahLst/>
            <a:rect l="l" t="t" r="r" b="b"/>
            <a:pathLst>
              <a:path w="4094" h="348">
                <a:moveTo>
                  <a:pt x="14858" y="794"/>
                </a:moveTo>
                <a:cubicBezTo>
                  <a:pt x="14811" y="773"/>
                  <a:pt x="14760" y="760"/>
                  <a:pt x="14709" y="744"/>
                </a:cubicBezTo>
                <a:cubicBezTo>
                  <a:pt x="14683" y="736"/>
                  <a:pt x="14585" y="695"/>
                  <a:pt x="14585" y="695"/>
                </a:cubicBezTo>
                <a:cubicBezTo>
                  <a:pt x="14379" y="661"/>
                  <a:pt x="14084" y="699"/>
                  <a:pt x="13915" y="719"/>
                </a:cubicBezTo>
                <a:cubicBezTo>
                  <a:pt x="13877" y="724"/>
                  <a:pt x="13794" y="744"/>
                  <a:pt x="13791" y="744"/>
                </a:cubicBezTo>
                <a:cubicBezTo>
                  <a:pt x="13699" y="756"/>
                  <a:pt x="13550" y="762"/>
                  <a:pt x="13494" y="769"/>
                </a:cubicBezTo>
                <a:cubicBezTo>
                  <a:pt x="13201" y="806"/>
                  <a:pt x="12884" y="718"/>
                  <a:pt x="12601" y="794"/>
                </a:cubicBezTo>
                <a:cubicBezTo>
                  <a:pt x="12540" y="810"/>
                  <a:pt x="12493" y="817"/>
                  <a:pt x="12427" y="819"/>
                </a:cubicBezTo>
                <a:cubicBezTo>
                  <a:pt x="12359" y="821"/>
                  <a:pt x="12310" y="826"/>
                  <a:pt x="12254" y="843"/>
                </a:cubicBezTo>
                <a:cubicBezTo>
                  <a:pt x="12194" y="861"/>
                  <a:pt x="12147" y="866"/>
                  <a:pt x="12080" y="868"/>
                </a:cubicBezTo>
                <a:cubicBezTo>
                  <a:pt x="11752" y="879"/>
                  <a:pt x="11398" y="878"/>
                  <a:pt x="11088" y="843"/>
                </a:cubicBezTo>
                <a:cubicBezTo>
                  <a:pt x="11003" y="834"/>
                  <a:pt x="10888" y="864"/>
                  <a:pt x="10840" y="819"/>
                </a:cubicBezTo>
                <a:cubicBezTo>
                  <a:pt x="10812" y="793"/>
                  <a:pt x="10819" y="798"/>
                  <a:pt x="10815" y="744"/>
                </a:cubicBezTo>
                <a:cubicBezTo>
                  <a:pt x="10811" y="690"/>
                  <a:pt x="10817" y="670"/>
                  <a:pt x="10840" y="645"/>
                </a:cubicBezTo>
                <a:cubicBezTo>
                  <a:pt x="10863" y="620"/>
                  <a:pt x="10879" y="637"/>
                  <a:pt x="10914" y="620"/>
                </a:cubicBezTo>
                <a:cubicBezTo>
                  <a:pt x="10931" y="612"/>
                  <a:pt x="10949" y="606"/>
                  <a:pt x="10988" y="595"/>
                </a:cubicBezTo>
                <a:cubicBezTo>
                  <a:pt x="11025" y="585"/>
                  <a:pt x="11010" y="567"/>
                  <a:pt x="11063" y="571"/>
                </a:cubicBezTo>
                <a:cubicBezTo>
                  <a:pt x="11116" y="575"/>
                  <a:pt x="11120" y="610"/>
                  <a:pt x="11162" y="620"/>
                </a:cubicBezTo>
                <a:cubicBezTo>
                  <a:pt x="11221" y="635"/>
                  <a:pt x="11267" y="600"/>
                  <a:pt x="11311" y="595"/>
                </a:cubicBezTo>
                <a:cubicBezTo>
                  <a:pt x="11343" y="591"/>
                  <a:pt x="11353" y="576"/>
                  <a:pt x="11385" y="571"/>
                </a:cubicBezTo>
                <a:cubicBezTo>
                  <a:pt x="11466" y="558"/>
                  <a:pt x="11612" y="552"/>
                  <a:pt x="11658" y="546"/>
                </a:cubicBezTo>
                <a:cubicBezTo>
                  <a:pt x="12116" y="488"/>
                  <a:pt x="12650" y="574"/>
                  <a:pt x="13072" y="521"/>
                </a:cubicBezTo>
                <a:cubicBezTo>
                  <a:pt x="13410" y="478"/>
                  <a:pt x="13865" y="509"/>
                  <a:pt x="14163" y="546"/>
                </a:cubicBezTo>
                <a:cubicBezTo>
                  <a:pt x="14236" y="555"/>
                  <a:pt x="14318" y="563"/>
                  <a:pt x="14387" y="571"/>
                </a:cubicBezTo>
                <a:cubicBezTo>
                  <a:pt x="14556" y="590"/>
                  <a:pt x="14738" y="571"/>
                  <a:pt x="14908" y="571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19680" y="312840"/>
            <a:ext cx="1438200" cy="17280"/>
          </a:xfrm>
          <a:custGeom>
            <a:avLst/>
            <a:gdLst/>
            <a:ahLst/>
            <a:rect l="l" t="t" r="r" b="b"/>
            <a:pathLst>
              <a:path w="3995" h="51">
                <a:moveTo>
                  <a:pt x="14883" y="918"/>
                </a:moveTo>
                <a:cubicBezTo>
                  <a:pt x="14846" y="915"/>
                  <a:pt x="14809" y="896"/>
                  <a:pt x="14784" y="893"/>
                </a:cubicBezTo>
                <a:cubicBezTo>
                  <a:pt x="14712" y="884"/>
                  <a:pt x="14633" y="893"/>
                  <a:pt x="14560" y="893"/>
                </a:cubicBezTo>
                <a:cubicBezTo>
                  <a:pt x="14547" y="897"/>
                  <a:pt x="14530" y="916"/>
                  <a:pt x="14486" y="918"/>
                </a:cubicBezTo>
                <a:cubicBezTo>
                  <a:pt x="13728" y="950"/>
                  <a:pt x="12962" y="918"/>
                  <a:pt x="12204" y="918"/>
                </a:cubicBezTo>
                <a:cubicBezTo>
                  <a:pt x="12191" y="914"/>
                  <a:pt x="12173" y="895"/>
                  <a:pt x="12129" y="893"/>
                </a:cubicBezTo>
                <a:cubicBezTo>
                  <a:pt x="11970" y="886"/>
                  <a:pt x="11802" y="882"/>
                  <a:pt x="11658" y="868"/>
                </a:cubicBezTo>
                <a:cubicBezTo>
                  <a:pt x="11406" y="843"/>
                  <a:pt x="11142" y="868"/>
                  <a:pt x="10889" y="868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77920" y="1214280"/>
            <a:ext cx="814320" cy="88920"/>
          </a:xfrm>
          <a:custGeom>
            <a:avLst/>
            <a:gdLst/>
            <a:ahLst/>
            <a:rect l="l" t="t" r="r" b="b"/>
            <a:pathLst>
              <a:path w="2258" h="249">
                <a:moveTo>
                  <a:pt x="3274" y="3398"/>
                </a:moveTo>
                <a:cubicBezTo>
                  <a:pt x="3315" y="3414"/>
                  <a:pt x="3324" y="3419"/>
                  <a:pt x="3373" y="3423"/>
                </a:cubicBezTo>
                <a:cubicBezTo>
                  <a:pt x="3381" y="3423"/>
                  <a:pt x="3390" y="3423"/>
                  <a:pt x="3398" y="3423"/>
                </a:cubicBezTo>
                <a:cubicBezTo>
                  <a:pt x="3422" y="3437"/>
                  <a:pt x="3420" y="3445"/>
                  <a:pt x="3473" y="3448"/>
                </a:cubicBezTo>
                <a:cubicBezTo>
                  <a:pt x="3548" y="3452"/>
                  <a:pt x="3610" y="3433"/>
                  <a:pt x="3671" y="3423"/>
                </a:cubicBezTo>
                <a:cubicBezTo>
                  <a:pt x="3705" y="3417"/>
                  <a:pt x="3746" y="3402"/>
                  <a:pt x="3770" y="3398"/>
                </a:cubicBezTo>
                <a:cubicBezTo>
                  <a:pt x="3811" y="3391"/>
                  <a:pt x="3862" y="3378"/>
                  <a:pt x="3894" y="3373"/>
                </a:cubicBezTo>
                <a:cubicBezTo>
                  <a:pt x="4015" y="3353"/>
                  <a:pt x="4153" y="3379"/>
                  <a:pt x="4266" y="3398"/>
                </a:cubicBezTo>
                <a:cubicBezTo>
                  <a:pt x="4300" y="3404"/>
                  <a:pt x="4341" y="3419"/>
                  <a:pt x="4366" y="3423"/>
                </a:cubicBezTo>
                <a:cubicBezTo>
                  <a:pt x="4519" y="3449"/>
                  <a:pt x="4724" y="3371"/>
                  <a:pt x="4862" y="3448"/>
                </a:cubicBezTo>
                <a:cubicBezTo>
                  <a:pt x="4965" y="3506"/>
                  <a:pt x="5045" y="3497"/>
                  <a:pt x="5159" y="3522"/>
                </a:cubicBezTo>
                <a:cubicBezTo>
                  <a:pt x="5256" y="3543"/>
                  <a:pt x="5363" y="3573"/>
                  <a:pt x="5457" y="3597"/>
                </a:cubicBezTo>
                <a:cubicBezTo>
                  <a:pt x="5498" y="3616"/>
                  <a:pt x="5504" y="3624"/>
                  <a:pt x="5531" y="3621"/>
                </a:cubicBezTo>
              </a:path>
            </a:pathLst>
          </a:custGeom>
          <a:noFill/>
          <a:ln cap="sq" w="228600">
            <a:solidFill>
              <a:srgbClr val="ffff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68280" y="1241280"/>
            <a:ext cx="839880" cy="88920"/>
          </a:xfrm>
          <a:custGeom>
            <a:avLst/>
            <a:gdLst/>
            <a:ahLst/>
            <a:rect l="l" t="t" r="r" b="b"/>
            <a:pathLst>
              <a:path w="2333" h="249">
                <a:moveTo>
                  <a:pt x="3522" y="3572"/>
                </a:moveTo>
                <a:cubicBezTo>
                  <a:pt x="3579" y="3588"/>
                  <a:pt x="3548" y="3602"/>
                  <a:pt x="3597" y="3621"/>
                </a:cubicBezTo>
                <a:cubicBezTo>
                  <a:pt x="3628" y="3633"/>
                  <a:pt x="3639" y="3640"/>
                  <a:pt x="3671" y="3646"/>
                </a:cubicBezTo>
                <a:cubicBezTo>
                  <a:pt x="3805" y="3673"/>
                  <a:pt x="3960" y="3649"/>
                  <a:pt x="4093" y="3671"/>
                </a:cubicBezTo>
                <a:cubicBezTo>
                  <a:pt x="4190" y="3687"/>
                  <a:pt x="4295" y="3680"/>
                  <a:pt x="4390" y="3696"/>
                </a:cubicBezTo>
                <a:cubicBezTo>
                  <a:pt x="4842" y="3772"/>
                  <a:pt x="5370" y="3696"/>
                  <a:pt x="5829" y="3696"/>
                </a:cubicBezTo>
                <a:cubicBezTo>
                  <a:pt x="5836" y="3644"/>
                  <a:pt x="5846" y="3660"/>
                  <a:pt x="5854" y="3621"/>
                </a:cubicBezTo>
                <a:cubicBezTo>
                  <a:pt x="5864" y="3572"/>
                  <a:pt x="5852" y="3565"/>
                  <a:pt x="5829" y="3547"/>
                </a:cubicBezTo>
                <a:cubicBezTo>
                  <a:pt x="5800" y="3525"/>
                  <a:pt x="5790" y="3506"/>
                  <a:pt x="5755" y="3497"/>
                </a:cubicBezTo>
                <a:cubicBezTo>
                  <a:pt x="5715" y="3486"/>
                  <a:pt x="5696" y="3481"/>
                  <a:pt x="5655" y="3473"/>
                </a:cubicBezTo>
                <a:cubicBezTo>
                  <a:pt x="5602" y="3463"/>
                  <a:pt x="5547" y="3494"/>
                  <a:pt x="5531" y="3497"/>
                </a:cubicBezTo>
                <a:cubicBezTo>
                  <a:pt x="5385" y="3525"/>
                  <a:pt x="5192" y="3494"/>
                  <a:pt x="5060" y="3473"/>
                </a:cubicBezTo>
                <a:cubicBezTo>
                  <a:pt x="4979" y="3460"/>
                  <a:pt x="4883" y="3460"/>
                  <a:pt x="4812" y="3448"/>
                </a:cubicBezTo>
                <a:cubicBezTo>
                  <a:pt x="4724" y="3433"/>
                  <a:pt x="4637" y="3461"/>
                  <a:pt x="4564" y="3473"/>
                </a:cubicBezTo>
                <a:cubicBezTo>
                  <a:pt x="4502" y="3483"/>
                  <a:pt x="4396" y="3491"/>
                  <a:pt x="4366" y="3497"/>
                </a:cubicBezTo>
                <a:cubicBezTo>
                  <a:pt x="4114" y="3546"/>
                  <a:pt x="3806" y="3497"/>
                  <a:pt x="3547" y="3497"/>
                </a:cubicBezTo>
              </a:path>
            </a:pathLst>
          </a:custGeom>
          <a:noFill/>
          <a:ln cap="sq" w="228600">
            <a:solidFill>
              <a:srgbClr val="00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62800" y="1197000"/>
            <a:ext cx="1724040" cy="152280"/>
          </a:xfrm>
          <a:custGeom>
            <a:avLst/>
            <a:gdLst/>
            <a:ahLst/>
            <a:rect l="l" t="t" r="r" b="b"/>
            <a:pathLst>
              <a:path w="4789" h="423">
                <a:moveTo>
                  <a:pt x="18306" y="3547"/>
                </a:moveTo>
                <a:cubicBezTo>
                  <a:pt x="18344" y="3560"/>
                  <a:pt x="18368" y="3581"/>
                  <a:pt x="18405" y="3597"/>
                </a:cubicBezTo>
                <a:cubicBezTo>
                  <a:pt x="18435" y="3610"/>
                  <a:pt x="18448" y="3610"/>
                  <a:pt x="18479" y="3621"/>
                </a:cubicBezTo>
                <a:cubicBezTo>
                  <a:pt x="18503" y="3630"/>
                  <a:pt x="18557" y="3647"/>
                  <a:pt x="18579" y="3646"/>
                </a:cubicBezTo>
                <a:cubicBezTo>
                  <a:pt x="18655" y="3643"/>
                  <a:pt x="18631" y="3632"/>
                  <a:pt x="18678" y="3621"/>
                </a:cubicBezTo>
                <a:cubicBezTo>
                  <a:pt x="18721" y="3611"/>
                  <a:pt x="18721" y="3601"/>
                  <a:pt x="18752" y="3597"/>
                </a:cubicBezTo>
                <a:cubicBezTo>
                  <a:pt x="20051" y="3443"/>
                  <a:pt x="21658" y="3510"/>
                  <a:pt x="22920" y="3621"/>
                </a:cubicBezTo>
                <a:cubicBezTo>
                  <a:pt x="22967" y="3625"/>
                  <a:pt x="23003" y="3641"/>
                  <a:pt x="23019" y="3646"/>
                </a:cubicBezTo>
                <a:cubicBezTo>
                  <a:pt x="22976" y="3660"/>
                  <a:pt x="22978" y="3660"/>
                  <a:pt x="22944" y="3671"/>
                </a:cubicBezTo>
                <a:cubicBezTo>
                  <a:pt x="22913" y="3682"/>
                  <a:pt x="22901" y="3685"/>
                  <a:pt x="22870" y="3696"/>
                </a:cubicBezTo>
                <a:cubicBezTo>
                  <a:pt x="22830" y="3709"/>
                  <a:pt x="22818" y="3716"/>
                  <a:pt x="22771" y="3721"/>
                </a:cubicBezTo>
                <a:cubicBezTo>
                  <a:pt x="22728" y="3726"/>
                  <a:pt x="22671" y="3696"/>
                  <a:pt x="22671" y="3696"/>
                </a:cubicBezTo>
                <a:cubicBezTo>
                  <a:pt x="22627" y="3692"/>
                  <a:pt x="22580" y="3675"/>
                  <a:pt x="22547" y="3671"/>
                </a:cubicBezTo>
                <a:cubicBezTo>
                  <a:pt x="22400" y="3652"/>
                  <a:pt x="22187" y="3655"/>
                  <a:pt x="22076" y="3646"/>
                </a:cubicBezTo>
                <a:cubicBezTo>
                  <a:pt x="21941" y="3635"/>
                  <a:pt x="21798" y="3660"/>
                  <a:pt x="21679" y="3671"/>
                </a:cubicBezTo>
                <a:cubicBezTo>
                  <a:pt x="21638" y="3675"/>
                  <a:pt x="21621" y="3691"/>
                  <a:pt x="21580" y="3696"/>
                </a:cubicBezTo>
                <a:cubicBezTo>
                  <a:pt x="21463" y="3710"/>
                  <a:pt x="21314" y="3713"/>
                  <a:pt x="21208" y="3721"/>
                </a:cubicBezTo>
                <a:cubicBezTo>
                  <a:pt x="21110" y="3729"/>
                  <a:pt x="21001" y="3740"/>
                  <a:pt x="20910" y="3746"/>
                </a:cubicBezTo>
                <a:cubicBezTo>
                  <a:pt x="20610" y="3767"/>
                  <a:pt x="20276" y="3747"/>
                  <a:pt x="19993" y="3721"/>
                </a:cubicBezTo>
                <a:cubicBezTo>
                  <a:pt x="19586" y="3684"/>
                  <a:pt x="19099" y="3730"/>
                  <a:pt x="18728" y="3696"/>
                </a:cubicBezTo>
                <a:cubicBezTo>
                  <a:pt x="18675" y="3691"/>
                  <a:pt x="18570" y="3672"/>
                  <a:pt x="18554" y="3671"/>
                </a:cubicBezTo>
                <a:cubicBezTo>
                  <a:pt x="18485" y="3665"/>
                  <a:pt x="18440" y="3674"/>
                  <a:pt x="18380" y="3646"/>
                </a:cubicBezTo>
                <a:cubicBezTo>
                  <a:pt x="18330" y="3623"/>
                  <a:pt x="18344" y="3652"/>
                  <a:pt x="18306" y="3597"/>
                </a:cubicBezTo>
                <a:cubicBezTo>
                  <a:pt x="18274" y="3551"/>
                  <a:pt x="18273" y="3528"/>
                  <a:pt x="18256" y="3497"/>
                </a:cubicBezTo>
                <a:cubicBezTo>
                  <a:pt x="18233" y="3475"/>
                  <a:pt x="18225" y="3470"/>
                  <a:pt x="18231" y="3448"/>
                </a:cubicBezTo>
                <a:cubicBezTo>
                  <a:pt x="18278" y="3432"/>
                  <a:pt x="18364" y="3420"/>
                  <a:pt x="18405" y="3398"/>
                </a:cubicBezTo>
                <a:cubicBezTo>
                  <a:pt x="18434" y="3382"/>
                  <a:pt x="18418" y="3349"/>
                  <a:pt x="18479" y="3349"/>
                </a:cubicBezTo>
                <a:cubicBezTo>
                  <a:pt x="18503" y="3349"/>
                  <a:pt x="18554" y="3364"/>
                  <a:pt x="18579" y="3373"/>
                </a:cubicBezTo>
                <a:cubicBezTo>
                  <a:pt x="18618" y="3387"/>
                  <a:pt x="18655" y="3425"/>
                  <a:pt x="18703" y="3423"/>
                </a:cubicBezTo>
                <a:cubicBezTo>
                  <a:pt x="18779" y="3420"/>
                  <a:pt x="18755" y="3409"/>
                  <a:pt x="18802" y="3398"/>
                </a:cubicBezTo>
                <a:cubicBezTo>
                  <a:pt x="18846" y="3388"/>
                  <a:pt x="18844" y="3377"/>
                  <a:pt x="18876" y="3373"/>
                </a:cubicBezTo>
                <a:cubicBezTo>
                  <a:pt x="19046" y="3352"/>
                  <a:pt x="19262" y="3359"/>
                  <a:pt x="19422" y="3398"/>
                </a:cubicBezTo>
                <a:cubicBezTo>
                  <a:pt x="19472" y="3410"/>
                  <a:pt x="19522" y="3418"/>
                  <a:pt x="19571" y="3423"/>
                </a:cubicBezTo>
                <a:cubicBezTo>
                  <a:pt x="19642" y="3430"/>
                  <a:pt x="19701" y="3428"/>
                  <a:pt x="19769" y="3448"/>
                </a:cubicBezTo>
                <a:cubicBezTo>
                  <a:pt x="19811" y="3460"/>
                  <a:pt x="19849" y="3468"/>
                  <a:pt x="19893" y="3473"/>
                </a:cubicBezTo>
                <a:cubicBezTo>
                  <a:pt x="19933" y="3477"/>
                  <a:pt x="19989" y="3495"/>
                  <a:pt x="20017" y="3497"/>
                </a:cubicBezTo>
                <a:cubicBezTo>
                  <a:pt x="20125" y="3506"/>
                  <a:pt x="20294" y="3516"/>
                  <a:pt x="20365" y="3522"/>
                </a:cubicBezTo>
                <a:cubicBezTo>
                  <a:pt x="20651" y="3547"/>
                  <a:pt x="20953" y="3525"/>
                  <a:pt x="21233" y="3547"/>
                </a:cubicBezTo>
                <a:cubicBezTo>
                  <a:pt x="21314" y="3553"/>
                  <a:pt x="21383" y="3529"/>
                  <a:pt x="21456" y="3522"/>
                </a:cubicBezTo>
                <a:cubicBezTo>
                  <a:pt x="21597" y="3509"/>
                  <a:pt x="21800" y="3506"/>
                  <a:pt x="21903" y="3497"/>
                </a:cubicBezTo>
                <a:cubicBezTo>
                  <a:pt x="21941" y="3494"/>
                  <a:pt x="22024" y="3473"/>
                  <a:pt x="22027" y="3473"/>
                </a:cubicBezTo>
                <a:cubicBezTo>
                  <a:pt x="22090" y="3466"/>
                  <a:pt x="22174" y="3453"/>
                  <a:pt x="22225" y="3448"/>
                </a:cubicBezTo>
                <a:cubicBezTo>
                  <a:pt x="22426" y="3430"/>
                  <a:pt x="22995" y="3468"/>
                  <a:pt x="22944" y="3448"/>
                </a:cubicBezTo>
                <a:cubicBezTo>
                  <a:pt x="22888" y="3426"/>
                  <a:pt x="22822" y="3388"/>
                  <a:pt x="22771" y="3373"/>
                </a:cubicBezTo>
                <a:cubicBezTo>
                  <a:pt x="22731" y="3361"/>
                  <a:pt x="22689" y="3362"/>
                  <a:pt x="22647" y="3349"/>
                </a:cubicBezTo>
                <a:cubicBezTo>
                  <a:pt x="22588" y="3331"/>
                  <a:pt x="22560" y="3326"/>
                  <a:pt x="22498" y="3324"/>
                </a:cubicBezTo>
                <a:cubicBezTo>
                  <a:pt x="22449" y="3323"/>
                  <a:pt x="22414" y="3345"/>
                  <a:pt x="22399" y="3349"/>
                </a:cubicBezTo>
                <a:cubicBezTo>
                  <a:pt x="22354" y="3362"/>
                  <a:pt x="22359" y="3361"/>
                  <a:pt x="22324" y="3373"/>
                </a:cubicBezTo>
                <a:cubicBezTo>
                  <a:pt x="22287" y="3385"/>
                  <a:pt x="22278" y="3394"/>
                  <a:pt x="22250" y="3398"/>
                </a:cubicBezTo>
                <a:cubicBezTo>
                  <a:pt x="22210" y="3403"/>
                  <a:pt x="22155" y="3420"/>
                  <a:pt x="22126" y="3423"/>
                </a:cubicBezTo>
                <a:cubicBezTo>
                  <a:pt x="21103" y="3535"/>
                  <a:pt x="19884" y="3490"/>
                  <a:pt x="18876" y="3398"/>
                </a:cubicBezTo>
                <a:cubicBezTo>
                  <a:pt x="18843" y="3395"/>
                  <a:pt x="18810" y="3400"/>
                  <a:pt x="18777" y="3398"/>
                </a:cubicBezTo>
              </a:path>
            </a:pathLst>
          </a:custGeom>
          <a:noFill/>
          <a:ln cap="sq" w="228600">
            <a:solidFill>
              <a:srgbClr val="00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66000" y="1490760"/>
            <a:ext cx="981000" cy="349200"/>
          </a:xfrm>
          <a:custGeom>
            <a:avLst/>
            <a:gdLst/>
            <a:ahLst/>
            <a:rect l="l" t="t" r="r" b="b"/>
            <a:pathLst>
              <a:path w="2729" h="969">
                <a:moveTo>
                  <a:pt x="19645" y="4167"/>
                </a:moveTo>
                <a:cubicBezTo>
                  <a:pt x="19645" y="4340"/>
                  <a:pt x="19642" y="4553"/>
                  <a:pt x="19621" y="4688"/>
                </a:cubicBezTo>
                <a:cubicBezTo>
                  <a:pt x="19621" y="4713"/>
                  <a:pt x="19621" y="4721"/>
                  <a:pt x="19621" y="4738"/>
                </a:cubicBezTo>
                <a:cubicBezTo>
                  <a:pt x="19636" y="4743"/>
                  <a:pt x="19717" y="4787"/>
                  <a:pt x="19720" y="4787"/>
                </a:cubicBezTo>
                <a:cubicBezTo>
                  <a:pt x="19766" y="4788"/>
                  <a:pt x="19801" y="4773"/>
                  <a:pt x="19844" y="4762"/>
                </a:cubicBezTo>
                <a:cubicBezTo>
                  <a:pt x="19884" y="4752"/>
                  <a:pt x="19881" y="4731"/>
                  <a:pt x="19918" y="4713"/>
                </a:cubicBezTo>
                <a:cubicBezTo>
                  <a:pt x="19948" y="4698"/>
                  <a:pt x="19956" y="4706"/>
                  <a:pt x="19993" y="4688"/>
                </a:cubicBezTo>
                <a:cubicBezTo>
                  <a:pt x="20028" y="4671"/>
                  <a:pt x="20016" y="4669"/>
                  <a:pt x="20067" y="4663"/>
                </a:cubicBezTo>
                <a:cubicBezTo>
                  <a:pt x="20117" y="4657"/>
                  <a:pt x="20127" y="4671"/>
                  <a:pt x="20166" y="4688"/>
                </a:cubicBezTo>
                <a:cubicBezTo>
                  <a:pt x="20207" y="4705"/>
                  <a:pt x="20251" y="4720"/>
                  <a:pt x="20290" y="4738"/>
                </a:cubicBezTo>
                <a:cubicBezTo>
                  <a:pt x="20319" y="4752"/>
                  <a:pt x="20329" y="4745"/>
                  <a:pt x="20365" y="4762"/>
                </a:cubicBezTo>
                <a:cubicBezTo>
                  <a:pt x="20410" y="4783"/>
                  <a:pt x="20415" y="4766"/>
                  <a:pt x="20464" y="4787"/>
                </a:cubicBezTo>
                <a:cubicBezTo>
                  <a:pt x="20507" y="4805"/>
                  <a:pt x="20512" y="4810"/>
                  <a:pt x="20563" y="4812"/>
                </a:cubicBezTo>
                <a:cubicBezTo>
                  <a:pt x="20767" y="4818"/>
                  <a:pt x="21047" y="4783"/>
                  <a:pt x="21208" y="4837"/>
                </a:cubicBezTo>
                <a:cubicBezTo>
                  <a:pt x="21240" y="4848"/>
                  <a:pt x="21276" y="4857"/>
                  <a:pt x="21307" y="4862"/>
                </a:cubicBezTo>
                <a:cubicBezTo>
                  <a:pt x="21367" y="4873"/>
                  <a:pt x="21456" y="4881"/>
                  <a:pt x="21506" y="4887"/>
                </a:cubicBezTo>
                <a:cubicBezTo>
                  <a:pt x="21596" y="4898"/>
                  <a:pt x="21690" y="4908"/>
                  <a:pt x="21779" y="4911"/>
                </a:cubicBezTo>
                <a:cubicBezTo>
                  <a:pt x="21840" y="4913"/>
                  <a:pt x="21901" y="4970"/>
                  <a:pt x="21952" y="4936"/>
                </a:cubicBezTo>
                <a:cubicBezTo>
                  <a:pt x="21911" y="4936"/>
                  <a:pt x="21895" y="4944"/>
                  <a:pt x="21903" y="4911"/>
                </a:cubicBezTo>
                <a:cubicBezTo>
                  <a:pt x="21866" y="4903"/>
                  <a:pt x="21851" y="4879"/>
                  <a:pt x="21803" y="4887"/>
                </a:cubicBezTo>
                <a:cubicBezTo>
                  <a:pt x="21754" y="4895"/>
                  <a:pt x="21682" y="4936"/>
                  <a:pt x="21630" y="4961"/>
                </a:cubicBezTo>
                <a:cubicBezTo>
                  <a:pt x="21560" y="4995"/>
                  <a:pt x="21500" y="5028"/>
                  <a:pt x="21431" y="5060"/>
                </a:cubicBezTo>
                <a:cubicBezTo>
                  <a:pt x="21396" y="5076"/>
                  <a:pt x="21372" y="5079"/>
                  <a:pt x="21332" y="5085"/>
                </a:cubicBezTo>
                <a:cubicBezTo>
                  <a:pt x="21265" y="5095"/>
                  <a:pt x="21218" y="5068"/>
                  <a:pt x="21158" y="5060"/>
                </a:cubicBezTo>
                <a:cubicBezTo>
                  <a:pt x="21109" y="5054"/>
                  <a:pt x="21102" y="5054"/>
                  <a:pt x="21059" y="5035"/>
                </a:cubicBezTo>
                <a:cubicBezTo>
                  <a:pt x="21018" y="5017"/>
                  <a:pt x="20974" y="5005"/>
                  <a:pt x="20935" y="4986"/>
                </a:cubicBezTo>
                <a:cubicBezTo>
                  <a:pt x="20890" y="4964"/>
                  <a:pt x="20864" y="4944"/>
                  <a:pt x="20811" y="4936"/>
                </a:cubicBezTo>
                <a:cubicBezTo>
                  <a:pt x="20536" y="4893"/>
                  <a:pt x="20152" y="4935"/>
                  <a:pt x="19918" y="4961"/>
                </a:cubicBezTo>
                <a:cubicBezTo>
                  <a:pt x="19813" y="4973"/>
                  <a:pt x="19702" y="4961"/>
                  <a:pt x="19596" y="4961"/>
                </a:cubicBezTo>
                <a:cubicBezTo>
                  <a:pt x="19630" y="4995"/>
                  <a:pt x="19623" y="4989"/>
                  <a:pt x="19670" y="5011"/>
                </a:cubicBezTo>
                <a:cubicBezTo>
                  <a:pt x="19701" y="5025"/>
                  <a:pt x="19731" y="5038"/>
                  <a:pt x="19769" y="5035"/>
                </a:cubicBezTo>
                <a:cubicBezTo>
                  <a:pt x="19798" y="5032"/>
                  <a:pt x="19827" y="4995"/>
                  <a:pt x="19844" y="4986"/>
                </a:cubicBezTo>
                <a:cubicBezTo>
                  <a:pt x="19871" y="4973"/>
                  <a:pt x="19897" y="4965"/>
                  <a:pt x="19918" y="4961"/>
                </a:cubicBezTo>
                <a:cubicBezTo>
                  <a:pt x="20055" y="4937"/>
                  <a:pt x="20218" y="4971"/>
                  <a:pt x="20340" y="4986"/>
                </a:cubicBezTo>
                <a:cubicBezTo>
                  <a:pt x="20382" y="4991"/>
                  <a:pt x="20433" y="5007"/>
                  <a:pt x="20464" y="5011"/>
                </a:cubicBezTo>
                <a:cubicBezTo>
                  <a:pt x="20746" y="5047"/>
                  <a:pt x="21630" y="5123"/>
                  <a:pt x="21828" y="4986"/>
                </a:cubicBezTo>
                <a:cubicBezTo>
                  <a:pt x="21865" y="4961"/>
                  <a:pt x="21895" y="4929"/>
                  <a:pt x="21927" y="4911"/>
                </a:cubicBezTo>
                <a:cubicBezTo>
                  <a:pt x="21940" y="4904"/>
                  <a:pt x="21990" y="4899"/>
                  <a:pt x="22002" y="4887"/>
                </a:cubicBezTo>
                <a:cubicBezTo>
                  <a:pt x="22002" y="4879"/>
                  <a:pt x="22002" y="4870"/>
                  <a:pt x="22002" y="4862"/>
                </a:cubicBezTo>
                <a:cubicBezTo>
                  <a:pt x="21980" y="4832"/>
                  <a:pt x="21969" y="4801"/>
                  <a:pt x="21952" y="4787"/>
                </a:cubicBezTo>
                <a:cubicBezTo>
                  <a:pt x="21934" y="4771"/>
                  <a:pt x="21886" y="4785"/>
                  <a:pt x="21878" y="4762"/>
                </a:cubicBezTo>
                <a:cubicBezTo>
                  <a:pt x="21822" y="4592"/>
                  <a:pt x="21878" y="4326"/>
                  <a:pt x="21878" y="4142"/>
                </a:cubicBezTo>
                <a:cubicBezTo>
                  <a:pt x="21837" y="4157"/>
                  <a:pt x="21790" y="4174"/>
                  <a:pt x="21754" y="4192"/>
                </a:cubicBezTo>
                <a:cubicBezTo>
                  <a:pt x="21716" y="4211"/>
                  <a:pt x="21693" y="4246"/>
                  <a:pt x="21654" y="4266"/>
                </a:cubicBezTo>
                <a:cubicBezTo>
                  <a:pt x="21605" y="4291"/>
                  <a:pt x="21570" y="4296"/>
                  <a:pt x="21530" y="4316"/>
                </a:cubicBezTo>
                <a:cubicBezTo>
                  <a:pt x="21493" y="4335"/>
                  <a:pt x="21474" y="4358"/>
                  <a:pt x="21431" y="4366"/>
                </a:cubicBezTo>
                <a:cubicBezTo>
                  <a:pt x="21373" y="4376"/>
                  <a:pt x="21350" y="4359"/>
                  <a:pt x="21307" y="4341"/>
                </a:cubicBezTo>
                <a:cubicBezTo>
                  <a:pt x="21279" y="4329"/>
                  <a:pt x="21267" y="4333"/>
                  <a:pt x="21233" y="4316"/>
                </a:cubicBezTo>
                <a:cubicBezTo>
                  <a:pt x="21197" y="4298"/>
                  <a:pt x="21187" y="4307"/>
                  <a:pt x="21158" y="4291"/>
                </a:cubicBezTo>
                <a:cubicBezTo>
                  <a:pt x="21127" y="4274"/>
                  <a:pt x="21089" y="4249"/>
                  <a:pt x="21059" y="4242"/>
                </a:cubicBezTo>
                <a:cubicBezTo>
                  <a:pt x="21035" y="4236"/>
                  <a:pt x="20975" y="4219"/>
                  <a:pt x="20960" y="4217"/>
                </a:cubicBezTo>
                <a:cubicBezTo>
                  <a:pt x="20923" y="4212"/>
                  <a:pt x="20888" y="4197"/>
                  <a:pt x="20861" y="4192"/>
                </a:cubicBezTo>
                <a:cubicBezTo>
                  <a:pt x="20830" y="4187"/>
                  <a:pt x="20783" y="4170"/>
                  <a:pt x="20762" y="4167"/>
                </a:cubicBezTo>
                <a:cubicBezTo>
                  <a:pt x="20677" y="4155"/>
                  <a:pt x="20599" y="4144"/>
                  <a:pt x="20513" y="4142"/>
                </a:cubicBezTo>
                <a:cubicBezTo>
                  <a:pt x="20432" y="4140"/>
                  <a:pt x="20381" y="4146"/>
                  <a:pt x="20315" y="4167"/>
                </a:cubicBezTo>
                <a:cubicBezTo>
                  <a:pt x="20259" y="4185"/>
                  <a:pt x="20166" y="4210"/>
                  <a:pt x="20117" y="4217"/>
                </a:cubicBezTo>
                <a:cubicBezTo>
                  <a:pt x="20055" y="4226"/>
                  <a:pt x="19997" y="4233"/>
                  <a:pt x="19968" y="4242"/>
                </a:cubicBezTo>
                <a:cubicBezTo>
                  <a:pt x="19924" y="4256"/>
                  <a:pt x="19884" y="4278"/>
                  <a:pt x="19844" y="4291"/>
                </a:cubicBezTo>
                <a:cubicBezTo>
                  <a:pt x="19796" y="4307"/>
                  <a:pt x="19720" y="4334"/>
                  <a:pt x="19670" y="4341"/>
                </a:cubicBezTo>
                <a:cubicBezTo>
                  <a:pt x="19575" y="4355"/>
                  <a:pt x="19468" y="4341"/>
                  <a:pt x="19372" y="4341"/>
                </a:cubicBezTo>
                <a:cubicBezTo>
                  <a:pt x="19438" y="4315"/>
                  <a:pt x="19533" y="4253"/>
                  <a:pt x="19596" y="4242"/>
                </a:cubicBezTo>
                <a:cubicBezTo>
                  <a:pt x="19662" y="4230"/>
                  <a:pt x="19733" y="4244"/>
                  <a:pt x="19794" y="4266"/>
                </a:cubicBezTo>
                <a:cubicBezTo>
                  <a:pt x="19846" y="4285"/>
                  <a:pt x="19894" y="4333"/>
                  <a:pt x="19943" y="4341"/>
                </a:cubicBezTo>
                <a:cubicBezTo>
                  <a:pt x="20025" y="4354"/>
                  <a:pt x="20100" y="4332"/>
                  <a:pt x="20141" y="4316"/>
                </a:cubicBezTo>
                <a:cubicBezTo>
                  <a:pt x="20182" y="4300"/>
                  <a:pt x="20184" y="4304"/>
                  <a:pt x="20216" y="4291"/>
                </a:cubicBezTo>
                <a:cubicBezTo>
                  <a:pt x="20273" y="4268"/>
                  <a:pt x="20308" y="4281"/>
                  <a:pt x="20365" y="4266"/>
                </a:cubicBezTo>
                <a:cubicBezTo>
                  <a:pt x="20397" y="4258"/>
                  <a:pt x="20432" y="4253"/>
                  <a:pt x="20464" y="4242"/>
                </a:cubicBezTo>
                <a:cubicBezTo>
                  <a:pt x="20512" y="4225"/>
                  <a:pt x="20553" y="4207"/>
                  <a:pt x="20613" y="4217"/>
                </a:cubicBezTo>
                <a:cubicBezTo>
                  <a:pt x="20647" y="4223"/>
                  <a:pt x="20676" y="4233"/>
                  <a:pt x="20712" y="4242"/>
                </a:cubicBezTo>
                <a:cubicBezTo>
                  <a:pt x="20647" y="4263"/>
                  <a:pt x="20582" y="4283"/>
                  <a:pt x="20513" y="4291"/>
                </a:cubicBezTo>
                <a:cubicBezTo>
                  <a:pt x="20437" y="4300"/>
                  <a:pt x="20383" y="4321"/>
                  <a:pt x="20315" y="4341"/>
                </a:cubicBezTo>
                <a:cubicBezTo>
                  <a:pt x="20274" y="4353"/>
                  <a:pt x="20243" y="4371"/>
                  <a:pt x="20191" y="4366"/>
                </a:cubicBezTo>
                <a:cubicBezTo>
                  <a:pt x="20146" y="4361"/>
                  <a:pt x="20108" y="4356"/>
                  <a:pt x="20067" y="4341"/>
                </a:cubicBezTo>
                <a:cubicBezTo>
                  <a:pt x="20025" y="4326"/>
                  <a:pt x="20012" y="4299"/>
                  <a:pt x="19968" y="4291"/>
                </a:cubicBezTo>
                <a:cubicBezTo>
                  <a:pt x="19899" y="4279"/>
                  <a:pt x="19827" y="4302"/>
                  <a:pt x="19794" y="4316"/>
                </a:cubicBezTo>
                <a:cubicBezTo>
                  <a:pt x="19754" y="4333"/>
                  <a:pt x="19752" y="4325"/>
                  <a:pt x="19720" y="4341"/>
                </a:cubicBezTo>
                <a:cubicBezTo>
                  <a:pt x="19681" y="4361"/>
                  <a:pt x="19668" y="4378"/>
                  <a:pt x="19645" y="4390"/>
                </a:cubicBezTo>
                <a:cubicBezTo>
                  <a:pt x="19618" y="4404"/>
                  <a:pt x="19574" y="4401"/>
                  <a:pt x="19546" y="4415"/>
                </a:cubicBezTo>
                <a:cubicBezTo>
                  <a:pt x="19540" y="4418"/>
                  <a:pt x="19492" y="4449"/>
                  <a:pt x="19472" y="4465"/>
                </a:cubicBezTo>
                <a:cubicBezTo>
                  <a:pt x="19470" y="4467"/>
                  <a:pt x="19402" y="4508"/>
                  <a:pt x="19397" y="4514"/>
                </a:cubicBezTo>
                <a:cubicBezTo>
                  <a:pt x="19383" y="4530"/>
                  <a:pt x="19381" y="4572"/>
                  <a:pt x="19372" y="4589"/>
                </a:cubicBezTo>
                <a:cubicBezTo>
                  <a:pt x="19367" y="4598"/>
                  <a:pt x="19326" y="4622"/>
                  <a:pt x="19348" y="4663"/>
                </a:cubicBezTo>
                <a:cubicBezTo>
                  <a:pt x="19360" y="4686"/>
                  <a:pt x="19390" y="4674"/>
                  <a:pt x="19397" y="4713"/>
                </a:cubicBezTo>
                <a:cubicBezTo>
                  <a:pt x="19406" y="4767"/>
                  <a:pt x="19411" y="4811"/>
                  <a:pt x="19422" y="4837"/>
                </a:cubicBezTo>
                <a:cubicBezTo>
                  <a:pt x="19447" y="4897"/>
                  <a:pt x="19430" y="4884"/>
                  <a:pt x="19422" y="4936"/>
                </a:cubicBezTo>
                <a:cubicBezTo>
                  <a:pt x="19420" y="4946"/>
                  <a:pt x="19383" y="4956"/>
                  <a:pt x="19422" y="4986"/>
                </a:cubicBezTo>
                <a:cubicBezTo>
                  <a:pt x="19439" y="4999"/>
                  <a:pt x="19500" y="5001"/>
                  <a:pt x="19521" y="5011"/>
                </a:cubicBezTo>
                <a:cubicBezTo>
                  <a:pt x="19551" y="5026"/>
                  <a:pt x="19560" y="5018"/>
                  <a:pt x="19596" y="5035"/>
                </a:cubicBezTo>
                <a:cubicBezTo>
                  <a:pt x="19639" y="5055"/>
                  <a:pt x="19643" y="5058"/>
                  <a:pt x="19695" y="5060"/>
                </a:cubicBezTo>
                <a:cubicBezTo>
                  <a:pt x="20368" y="5086"/>
                  <a:pt x="21067" y="5001"/>
                  <a:pt x="21729" y="5085"/>
                </a:cubicBezTo>
                <a:cubicBezTo>
                  <a:pt x="21749" y="5088"/>
                  <a:pt x="21823" y="5110"/>
                  <a:pt x="21828" y="5110"/>
                </a:cubicBezTo>
                <a:cubicBezTo>
                  <a:pt x="21871" y="5108"/>
                  <a:pt x="21891" y="5099"/>
                  <a:pt x="21927" y="5085"/>
                </a:cubicBezTo>
                <a:cubicBezTo>
                  <a:pt x="21936" y="5082"/>
                  <a:pt x="21993" y="5069"/>
                  <a:pt x="22002" y="5060"/>
                </a:cubicBezTo>
                <a:cubicBezTo>
                  <a:pt x="22026" y="5037"/>
                  <a:pt x="22033" y="5017"/>
                  <a:pt x="22051" y="4986"/>
                </a:cubicBezTo>
                <a:cubicBezTo>
                  <a:pt x="22070" y="4953"/>
                  <a:pt x="22068" y="4959"/>
                  <a:pt x="22076" y="4911"/>
                </a:cubicBezTo>
                <a:cubicBezTo>
                  <a:pt x="22084" y="4864"/>
                  <a:pt x="22055" y="4845"/>
                  <a:pt x="22051" y="4812"/>
                </a:cubicBezTo>
                <a:cubicBezTo>
                  <a:pt x="22047" y="4780"/>
                  <a:pt x="22032" y="4770"/>
                  <a:pt x="22027" y="4738"/>
                </a:cubicBezTo>
                <a:cubicBezTo>
                  <a:pt x="21998" y="4567"/>
                  <a:pt x="22027" y="4366"/>
                  <a:pt x="22027" y="4192"/>
                </a:cubicBezTo>
              </a:path>
            </a:pathLst>
          </a:custGeom>
          <a:noFill/>
          <a:ln cap="sq" w="228600">
            <a:solidFill>
              <a:srgbClr val="00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25360" y="2116080"/>
            <a:ext cx="1170000" cy="81000"/>
          </a:xfrm>
          <a:custGeom>
            <a:avLst/>
            <a:gdLst/>
            <a:ahLst/>
            <a:rect l="l" t="t" r="r" b="b"/>
            <a:pathLst>
              <a:path w="3251" h="224">
                <a:moveTo>
                  <a:pt x="3125" y="6028"/>
                </a:moveTo>
                <a:cubicBezTo>
                  <a:pt x="3149" y="6038"/>
                  <a:pt x="3205" y="6039"/>
                  <a:pt x="3225" y="6052"/>
                </a:cubicBezTo>
                <a:cubicBezTo>
                  <a:pt x="3273" y="6083"/>
                  <a:pt x="3266" y="6095"/>
                  <a:pt x="3324" y="6102"/>
                </a:cubicBezTo>
                <a:cubicBezTo>
                  <a:pt x="3372" y="6108"/>
                  <a:pt x="3424" y="6102"/>
                  <a:pt x="3473" y="6102"/>
                </a:cubicBezTo>
                <a:cubicBezTo>
                  <a:pt x="3488" y="6096"/>
                  <a:pt x="3502" y="6080"/>
                  <a:pt x="3547" y="6077"/>
                </a:cubicBezTo>
                <a:cubicBezTo>
                  <a:pt x="3555" y="6077"/>
                  <a:pt x="3564" y="6077"/>
                  <a:pt x="3572" y="6077"/>
                </a:cubicBezTo>
                <a:cubicBezTo>
                  <a:pt x="3585" y="6073"/>
                  <a:pt x="3602" y="6054"/>
                  <a:pt x="3646" y="6052"/>
                </a:cubicBezTo>
                <a:cubicBezTo>
                  <a:pt x="3759" y="6047"/>
                  <a:pt x="3872" y="6065"/>
                  <a:pt x="3969" y="6077"/>
                </a:cubicBezTo>
                <a:cubicBezTo>
                  <a:pt x="4001" y="6081"/>
                  <a:pt x="4035" y="6074"/>
                  <a:pt x="4068" y="6077"/>
                </a:cubicBezTo>
                <a:cubicBezTo>
                  <a:pt x="4081" y="6081"/>
                  <a:pt x="4098" y="6100"/>
                  <a:pt x="4142" y="6102"/>
                </a:cubicBezTo>
                <a:cubicBezTo>
                  <a:pt x="4654" y="6120"/>
                  <a:pt x="5211" y="6129"/>
                  <a:pt x="5705" y="6077"/>
                </a:cubicBezTo>
                <a:cubicBezTo>
                  <a:pt x="5738" y="6074"/>
                  <a:pt x="5771" y="6080"/>
                  <a:pt x="5804" y="6077"/>
                </a:cubicBezTo>
                <a:cubicBezTo>
                  <a:pt x="5817" y="6073"/>
                  <a:pt x="5835" y="6054"/>
                  <a:pt x="5879" y="6052"/>
                </a:cubicBezTo>
                <a:cubicBezTo>
                  <a:pt x="5920" y="6050"/>
                  <a:pt x="5962" y="6052"/>
                  <a:pt x="6003" y="6052"/>
                </a:cubicBezTo>
                <a:cubicBezTo>
                  <a:pt x="6015" y="6048"/>
                  <a:pt x="6035" y="6030"/>
                  <a:pt x="6077" y="6028"/>
                </a:cubicBezTo>
                <a:cubicBezTo>
                  <a:pt x="6176" y="6024"/>
                  <a:pt x="6276" y="6028"/>
                  <a:pt x="6375" y="6028"/>
                </a:cubicBezTo>
                <a:cubicBezTo>
                  <a:pt x="6340" y="6005"/>
                  <a:pt x="6343" y="5996"/>
                  <a:pt x="6325" y="5978"/>
                </a:cubicBezTo>
                <a:cubicBezTo>
                  <a:pt x="6297" y="5964"/>
                  <a:pt x="6256" y="5940"/>
                  <a:pt x="6226" y="5928"/>
                </a:cubicBezTo>
                <a:cubicBezTo>
                  <a:pt x="6179" y="5910"/>
                  <a:pt x="6173" y="5915"/>
                  <a:pt x="6127" y="5879"/>
                </a:cubicBezTo>
              </a:path>
            </a:pathLst>
          </a:custGeom>
          <a:noFill/>
          <a:ln cap="sq" w="228600">
            <a:solidFill>
              <a:srgbClr val="33cccc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42120" y="2125800"/>
            <a:ext cx="482760" cy="17280"/>
          </a:xfrm>
          <a:custGeom>
            <a:avLst/>
            <a:gdLst/>
            <a:ahLst/>
            <a:rect l="l" t="t" r="r" b="b"/>
            <a:pathLst>
              <a:path w="1340" h="50">
                <a:moveTo>
                  <a:pt x="20117" y="5953"/>
                </a:moveTo>
                <a:cubicBezTo>
                  <a:pt x="20249" y="5953"/>
                  <a:pt x="20381" y="5953"/>
                  <a:pt x="20513" y="5953"/>
                </a:cubicBezTo>
                <a:cubicBezTo>
                  <a:pt x="20535" y="5919"/>
                  <a:pt x="20562" y="5928"/>
                  <a:pt x="20613" y="5928"/>
                </a:cubicBezTo>
                <a:cubicBezTo>
                  <a:pt x="20770" y="5928"/>
                  <a:pt x="20927" y="5928"/>
                  <a:pt x="21084" y="5928"/>
                </a:cubicBezTo>
                <a:cubicBezTo>
                  <a:pt x="21097" y="5892"/>
                  <a:pt x="21114" y="5904"/>
                  <a:pt x="21158" y="5904"/>
                </a:cubicBezTo>
                <a:cubicBezTo>
                  <a:pt x="21257" y="5904"/>
                  <a:pt x="21357" y="5904"/>
                  <a:pt x="21456" y="5904"/>
                </a:cubicBezTo>
              </a:path>
            </a:pathLst>
          </a:custGeom>
          <a:noFill/>
          <a:ln cap="sq" w="228600">
            <a:solidFill>
              <a:srgbClr val="33cccc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527200"/>
            <a:ext cx="1009800" cy="44640"/>
          </a:xfrm>
          <a:custGeom>
            <a:avLst/>
            <a:gdLst/>
            <a:ahLst/>
            <a:rect l="l" t="t" r="r" b="b"/>
            <a:pathLst>
              <a:path w="2804" h="125">
                <a:moveTo>
                  <a:pt x="3299" y="7069"/>
                </a:moveTo>
                <a:cubicBezTo>
                  <a:pt x="3299" y="7077"/>
                  <a:pt x="3299" y="7086"/>
                  <a:pt x="3299" y="7094"/>
                </a:cubicBezTo>
                <a:cubicBezTo>
                  <a:pt x="3358" y="7109"/>
                  <a:pt x="3333" y="7129"/>
                  <a:pt x="3398" y="7144"/>
                </a:cubicBezTo>
                <a:cubicBezTo>
                  <a:pt x="3464" y="7160"/>
                  <a:pt x="3553" y="7144"/>
                  <a:pt x="3621" y="7144"/>
                </a:cubicBezTo>
                <a:cubicBezTo>
                  <a:pt x="3656" y="7102"/>
                  <a:pt x="3638" y="7111"/>
                  <a:pt x="3696" y="7094"/>
                </a:cubicBezTo>
                <a:cubicBezTo>
                  <a:pt x="3722" y="7074"/>
                  <a:pt x="3695" y="7077"/>
                  <a:pt x="3746" y="7069"/>
                </a:cubicBezTo>
                <a:cubicBezTo>
                  <a:pt x="3769" y="7055"/>
                  <a:pt x="3769" y="7048"/>
                  <a:pt x="3820" y="7045"/>
                </a:cubicBezTo>
                <a:cubicBezTo>
                  <a:pt x="3845" y="7045"/>
                  <a:pt x="3853" y="7045"/>
                  <a:pt x="3870" y="7045"/>
                </a:cubicBezTo>
                <a:cubicBezTo>
                  <a:pt x="3893" y="7059"/>
                  <a:pt x="3893" y="7066"/>
                  <a:pt x="3944" y="7069"/>
                </a:cubicBezTo>
                <a:cubicBezTo>
                  <a:pt x="4032" y="7074"/>
                  <a:pt x="4117" y="7081"/>
                  <a:pt x="4192" y="7094"/>
                </a:cubicBezTo>
                <a:cubicBezTo>
                  <a:pt x="4216" y="7098"/>
                  <a:pt x="4242" y="7091"/>
                  <a:pt x="4266" y="7094"/>
                </a:cubicBezTo>
                <a:cubicBezTo>
                  <a:pt x="4290" y="7108"/>
                  <a:pt x="4288" y="7116"/>
                  <a:pt x="4341" y="7119"/>
                </a:cubicBezTo>
                <a:cubicBezTo>
                  <a:pt x="4397" y="7122"/>
                  <a:pt x="4445" y="7136"/>
                  <a:pt x="4490" y="7144"/>
                </a:cubicBezTo>
                <a:cubicBezTo>
                  <a:pt x="4583" y="7160"/>
                  <a:pt x="4693" y="7144"/>
                  <a:pt x="4787" y="7144"/>
                </a:cubicBezTo>
                <a:cubicBezTo>
                  <a:pt x="4811" y="7130"/>
                  <a:pt x="4809" y="7122"/>
                  <a:pt x="4862" y="7119"/>
                </a:cubicBezTo>
                <a:cubicBezTo>
                  <a:pt x="4895" y="7117"/>
                  <a:pt x="4928" y="7119"/>
                  <a:pt x="4961" y="7119"/>
                </a:cubicBezTo>
                <a:cubicBezTo>
                  <a:pt x="4985" y="7105"/>
                  <a:pt x="4983" y="7096"/>
                  <a:pt x="5035" y="7094"/>
                </a:cubicBezTo>
                <a:cubicBezTo>
                  <a:pt x="5389" y="7078"/>
                  <a:pt x="5748" y="7094"/>
                  <a:pt x="6102" y="7094"/>
                </a:cubicBezTo>
                <a:cubicBezTo>
                  <a:pt x="6076" y="7057"/>
                  <a:pt x="6076" y="7040"/>
                  <a:pt x="6028" y="7020"/>
                </a:cubicBezTo>
                <a:cubicBezTo>
                  <a:pt x="6020" y="7020"/>
                  <a:pt x="6011" y="7020"/>
                  <a:pt x="6003" y="7020"/>
                </a:cubicBezTo>
              </a:path>
            </a:pathLst>
          </a:custGeom>
          <a:noFill/>
          <a:ln cap="sq" w="228600">
            <a:solidFill>
              <a:srgbClr val="ff99cc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81880" y="2544840"/>
            <a:ext cx="1776240" cy="63360"/>
          </a:xfrm>
          <a:custGeom>
            <a:avLst/>
            <a:gdLst/>
            <a:ahLst/>
            <a:rect l="l" t="t" r="r" b="b"/>
            <a:pathLst>
              <a:path w="4937" h="175">
                <a:moveTo>
                  <a:pt x="18281" y="7243"/>
                </a:moveTo>
                <a:cubicBezTo>
                  <a:pt x="18325" y="7240"/>
                  <a:pt x="18374" y="7221"/>
                  <a:pt x="18405" y="7218"/>
                </a:cubicBezTo>
                <a:cubicBezTo>
                  <a:pt x="18462" y="7212"/>
                  <a:pt x="18521" y="7222"/>
                  <a:pt x="18579" y="7218"/>
                </a:cubicBezTo>
                <a:cubicBezTo>
                  <a:pt x="18582" y="7217"/>
                  <a:pt x="18620" y="7197"/>
                  <a:pt x="18653" y="7193"/>
                </a:cubicBezTo>
                <a:cubicBezTo>
                  <a:pt x="18686" y="7193"/>
                  <a:pt x="18703" y="7193"/>
                  <a:pt x="18728" y="7193"/>
                </a:cubicBezTo>
                <a:cubicBezTo>
                  <a:pt x="18735" y="7167"/>
                  <a:pt x="18737" y="7165"/>
                  <a:pt x="18752" y="7144"/>
                </a:cubicBezTo>
                <a:cubicBezTo>
                  <a:pt x="18894" y="7144"/>
                  <a:pt x="19047" y="7158"/>
                  <a:pt x="19174" y="7169"/>
                </a:cubicBezTo>
                <a:cubicBezTo>
                  <a:pt x="19247" y="7175"/>
                  <a:pt x="19324" y="7169"/>
                  <a:pt x="19397" y="7169"/>
                </a:cubicBezTo>
                <a:cubicBezTo>
                  <a:pt x="19398" y="7169"/>
                  <a:pt x="19440" y="7190"/>
                  <a:pt x="19472" y="7193"/>
                </a:cubicBezTo>
                <a:cubicBezTo>
                  <a:pt x="19760" y="7222"/>
                  <a:pt x="20093" y="7193"/>
                  <a:pt x="20365" y="7169"/>
                </a:cubicBezTo>
                <a:cubicBezTo>
                  <a:pt x="20433" y="7163"/>
                  <a:pt x="20476" y="7150"/>
                  <a:pt x="20538" y="7144"/>
                </a:cubicBezTo>
                <a:cubicBezTo>
                  <a:pt x="21171" y="7086"/>
                  <a:pt x="21837" y="7144"/>
                  <a:pt x="22473" y="7144"/>
                </a:cubicBezTo>
                <a:cubicBezTo>
                  <a:pt x="22475" y="7144"/>
                  <a:pt x="22514" y="7122"/>
                  <a:pt x="22547" y="7119"/>
                </a:cubicBezTo>
                <a:cubicBezTo>
                  <a:pt x="22603" y="7113"/>
                  <a:pt x="22649" y="7098"/>
                  <a:pt x="22696" y="7094"/>
                </a:cubicBezTo>
                <a:cubicBezTo>
                  <a:pt x="22745" y="7090"/>
                  <a:pt x="22796" y="7097"/>
                  <a:pt x="22845" y="7094"/>
                </a:cubicBezTo>
                <a:cubicBezTo>
                  <a:pt x="22847" y="7094"/>
                  <a:pt x="22886" y="7072"/>
                  <a:pt x="22920" y="7069"/>
                </a:cubicBezTo>
                <a:cubicBezTo>
                  <a:pt x="23027" y="7058"/>
                  <a:pt x="23085" y="7069"/>
                  <a:pt x="23192" y="7069"/>
                </a:cubicBezTo>
              </a:path>
            </a:pathLst>
          </a:custGeom>
          <a:noFill/>
          <a:ln cap="sq" w="228600">
            <a:solidFill>
              <a:srgbClr val="ff99cc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25002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9472" y="6945"/>
                </a:moveTo>
                <a:lnTo>
                  <a:pt x="19472" y="6945"/>
                </a:lnTo>
                <a:lnTo>
                  <a:pt x="19472" y="6945"/>
                </a:lnTo>
                <a:lnTo>
                  <a:pt x="19472" y="6945"/>
                </a:lnTo>
                <a:lnTo>
                  <a:pt x="19472" y="6945"/>
                </a:lnTo>
                <a:lnTo>
                  <a:pt x="19472" y="6945"/>
                </a:lnTo>
                <a:lnTo>
                  <a:pt x="19472" y="6945"/>
                </a:lnTo>
              </a:path>
            </a:pathLst>
          </a:custGeom>
          <a:noFill/>
          <a:ln cap="sq" w="228600">
            <a:solidFill>
              <a:srgbClr val="ff99cc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5200" y="2517840"/>
            <a:ext cx="97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9571" y="6995"/>
                </a:moveTo>
                <a:cubicBezTo>
                  <a:pt x="19579" y="6995"/>
                  <a:pt x="19588" y="6995"/>
                  <a:pt x="19596" y="6995"/>
                </a:cubicBezTo>
              </a:path>
            </a:pathLst>
          </a:custGeom>
          <a:noFill/>
          <a:ln cap="sq" w="228600">
            <a:solidFill>
              <a:srgbClr val="ff99cc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04920" y="2938320"/>
            <a:ext cx="974880" cy="79560"/>
          </a:xfrm>
          <a:custGeom>
            <a:avLst/>
            <a:gdLst/>
            <a:ahLst/>
            <a:rect l="l" t="t" r="r" b="b"/>
            <a:pathLst>
              <a:path w="2704" h="224">
                <a:moveTo>
                  <a:pt x="3349" y="8359"/>
                </a:moveTo>
                <a:cubicBezTo>
                  <a:pt x="3385" y="8373"/>
                  <a:pt x="3406" y="8382"/>
                  <a:pt x="3448" y="8384"/>
                </a:cubicBezTo>
                <a:cubicBezTo>
                  <a:pt x="3508" y="8387"/>
                  <a:pt x="3499" y="8350"/>
                  <a:pt x="3547" y="8334"/>
                </a:cubicBezTo>
                <a:cubicBezTo>
                  <a:pt x="3581" y="8323"/>
                  <a:pt x="3667" y="8315"/>
                  <a:pt x="3696" y="8310"/>
                </a:cubicBezTo>
                <a:cubicBezTo>
                  <a:pt x="3754" y="8301"/>
                  <a:pt x="3822" y="8293"/>
                  <a:pt x="3870" y="8285"/>
                </a:cubicBezTo>
                <a:cubicBezTo>
                  <a:pt x="3949" y="8272"/>
                  <a:pt x="4018" y="8299"/>
                  <a:pt x="4093" y="8310"/>
                </a:cubicBezTo>
                <a:cubicBezTo>
                  <a:pt x="4174" y="8322"/>
                  <a:pt x="4260" y="8325"/>
                  <a:pt x="4341" y="8334"/>
                </a:cubicBezTo>
                <a:cubicBezTo>
                  <a:pt x="4408" y="8342"/>
                  <a:pt x="4461" y="8319"/>
                  <a:pt x="4514" y="8310"/>
                </a:cubicBezTo>
                <a:cubicBezTo>
                  <a:pt x="4613" y="8294"/>
                  <a:pt x="4746" y="8302"/>
                  <a:pt x="4837" y="8334"/>
                </a:cubicBezTo>
                <a:cubicBezTo>
                  <a:pt x="4889" y="8352"/>
                  <a:pt x="4929" y="8356"/>
                  <a:pt x="4986" y="8359"/>
                </a:cubicBezTo>
                <a:cubicBezTo>
                  <a:pt x="5191" y="8370"/>
                  <a:pt x="5418" y="8364"/>
                  <a:pt x="5606" y="8334"/>
                </a:cubicBezTo>
                <a:cubicBezTo>
                  <a:pt x="5730" y="8314"/>
                  <a:pt x="5888" y="8346"/>
                  <a:pt x="5978" y="8310"/>
                </a:cubicBezTo>
                <a:cubicBezTo>
                  <a:pt x="6013" y="8310"/>
                  <a:pt x="6030" y="8305"/>
                  <a:pt x="6052" y="8285"/>
                </a:cubicBezTo>
                <a:cubicBezTo>
                  <a:pt x="6029" y="8261"/>
                  <a:pt x="6043" y="8247"/>
                  <a:pt x="6003" y="8235"/>
                </a:cubicBezTo>
                <a:cubicBezTo>
                  <a:pt x="5960" y="8223"/>
                  <a:pt x="5956" y="8232"/>
                  <a:pt x="5928" y="8210"/>
                </a:cubicBezTo>
                <a:cubicBezTo>
                  <a:pt x="5904" y="8191"/>
                  <a:pt x="5892" y="8205"/>
                  <a:pt x="5854" y="8186"/>
                </a:cubicBezTo>
                <a:cubicBezTo>
                  <a:pt x="5833" y="8175"/>
                  <a:pt x="5829" y="8164"/>
                  <a:pt x="5779" y="8161"/>
                </a:cubicBezTo>
                <a:cubicBezTo>
                  <a:pt x="5711" y="8157"/>
                  <a:pt x="5662" y="8162"/>
                  <a:pt x="5606" y="8186"/>
                </a:cubicBezTo>
                <a:cubicBezTo>
                  <a:pt x="5572" y="8201"/>
                  <a:pt x="5547" y="8208"/>
                  <a:pt x="5507" y="8210"/>
                </a:cubicBezTo>
                <a:cubicBezTo>
                  <a:pt x="5452" y="8213"/>
                  <a:pt x="5472" y="8227"/>
                  <a:pt x="5432" y="8235"/>
                </a:cubicBezTo>
                <a:cubicBezTo>
                  <a:pt x="5393" y="8243"/>
                  <a:pt x="5341" y="8283"/>
                  <a:pt x="5333" y="8285"/>
                </a:cubicBezTo>
                <a:cubicBezTo>
                  <a:pt x="5262" y="8303"/>
                  <a:pt x="5236" y="8313"/>
                  <a:pt x="5184" y="8334"/>
                </a:cubicBezTo>
                <a:cubicBezTo>
                  <a:pt x="5146" y="8349"/>
                  <a:pt x="5118" y="8315"/>
                  <a:pt x="5085" y="8310"/>
                </a:cubicBezTo>
                <a:cubicBezTo>
                  <a:pt x="5044" y="8303"/>
                  <a:pt x="5023" y="8291"/>
                  <a:pt x="4986" y="8285"/>
                </a:cubicBezTo>
                <a:cubicBezTo>
                  <a:pt x="4921" y="8274"/>
                  <a:pt x="4842" y="8269"/>
                  <a:pt x="4787" y="8260"/>
                </a:cubicBezTo>
                <a:cubicBezTo>
                  <a:pt x="4747" y="8253"/>
                  <a:pt x="4725" y="8241"/>
                  <a:pt x="4688" y="8235"/>
                </a:cubicBezTo>
                <a:cubicBezTo>
                  <a:pt x="4459" y="8197"/>
                  <a:pt x="4101" y="8223"/>
                  <a:pt x="3919" y="8260"/>
                </a:cubicBezTo>
                <a:cubicBezTo>
                  <a:pt x="3835" y="8277"/>
                  <a:pt x="3795" y="8307"/>
                  <a:pt x="3696" y="8310"/>
                </a:cubicBezTo>
                <a:cubicBezTo>
                  <a:pt x="3679" y="8311"/>
                  <a:pt x="3486" y="8298"/>
                  <a:pt x="3473" y="8334"/>
                </a:cubicBezTo>
                <a:cubicBezTo>
                  <a:pt x="3497" y="8334"/>
                  <a:pt x="3506" y="8334"/>
                  <a:pt x="3522" y="833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6160" y="2955960"/>
            <a:ext cx="1598760" cy="652320"/>
          </a:xfrm>
          <a:custGeom>
            <a:avLst/>
            <a:gdLst/>
            <a:ahLst/>
            <a:rect l="l" t="t" r="r" b="b"/>
            <a:pathLst>
              <a:path w="4441" h="1812">
                <a:moveTo>
                  <a:pt x="18579" y="8359"/>
                </a:moveTo>
                <a:cubicBezTo>
                  <a:pt x="18607" y="8342"/>
                  <a:pt x="18596" y="8317"/>
                  <a:pt x="18628" y="8310"/>
                </a:cubicBezTo>
                <a:cubicBezTo>
                  <a:pt x="18663" y="8302"/>
                  <a:pt x="18726" y="8289"/>
                  <a:pt x="18752" y="8285"/>
                </a:cubicBezTo>
                <a:cubicBezTo>
                  <a:pt x="18794" y="8279"/>
                  <a:pt x="18854" y="8312"/>
                  <a:pt x="18876" y="8310"/>
                </a:cubicBezTo>
                <a:cubicBezTo>
                  <a:pt x="18909" y="8307"/>
                  <a:pt x="18918" y="8287"/>
                  <a:pt x="18951" y="8285"/>
                </a:cubicBezTo>
                <a:cubicBezTo>
                  <a:pt x="19179" y="8271"/>
                  <a:pt x="19455" y="8276"/>
                  <a:pt x="19645" y="8260"/>
                </a:cubicBezTo>
                <a:cubicBezTo>
                  <a:pt x="19698" y="8256"/>
                  <a:pt x="19803" y="8236"/>
                  <a:pt x="19819" y="8235"/>
                </a:cubicBezTo>
                <a:cubicBezTo>
                  <a:pt x="19899" y="8228"/>
                  <a:pt x="19977" y="8255"/>
                  <a:pt x="20042" y="8260"/>
                </a:cubicBezTo>
                <a:cubicBezTo>
                  <a:pt x="20114" y="8266"/>
                  <a:pt x="20180" y="8273"/>
                  <a:pt x="20241" y="8285"/>
                </a:cubicBezTo>
                <a:cubicBezTo>
                  <a:pt x="20285" y="8294"/>
                  <a:pt x="20333" y="8307"/>
                  <a:pt x="20389" y="8310"/>
                </a:cubicBezTo>
                <a:cubicBezTo>
                  <a:pt x="20440" y="8313"/>
                  <a:pt x="20499" y="8331"/>
                  <a:pt x="20538" y="8334"/>
                </a:cubicBezTo>
                <a:cubicBezTo>
                  <a:pt x="20654" y="8343"/>
                  <a:pt x="20776" y="8350"/>
                  <a:pt x="20886" y="8359"/>
                </a:cubicBezTo>
                <a:cubicBezTo>
                  <a:pt x="21158" y="8382"/>
                  <a:pt x="21498" y="8355"/>
                  <a:pt x="21729" y="8334"/>
                </a:cubicBezTo>
                <a:cubicBezTo>
                  <a:pt x="21826" y="8325"/>
                  <a:pt x="21943" y="8317"/>
                  <a:pt x="22027" y="8310"/>
                </a:cubicBezTo>
                <a:cubicBezTo>
                  <a:pt x="22113" y="8303"/>
                  <a:pt x="22192" y="8292"/>
                  <a:pt x="22275" y="8285"/>
                </a:cubicBezTo>
                <a:cubicBezTo>
                  <a:pt x="22364" y="8278"/>
                  <a:pt x="22472" y="8266"/>
                  <a:pt x="22547" y="8260"/>
                </a:cubicBezTo>
                <a:cubicBezTo>
                  <a:pt x="22613" y="8254"/>
                  <a:pt x="22630" y="8260"/>
                  <a:pt x="22696" y="8260"/>
                </a:cubicBezTo>
                <a:cubicBezTo>
                  <a:pt x="22688" y="8260"/>
                  <a:pt x="22679" y="8260"/>
                  <a:pt x="22671" y="8260"/>
                </a:cubicBezTo>
                <a:cubicBezTo>
                  <a:pt x="22659" y="8255"/>
                  <a:pt x="22536" y="8206"/>
                  <a:pt x="22572" y="8235"/>
                </a:cubicBezTo>
                <a:cubicBezTo>
                  <a:pt x="22613" y="8255"/>
                  <a:pt x="22619" y="8264"/>
                  <a:pt x="22647" y="8260"/>
                </a:cubicBezTo>
                <a:cubicBezTo>
                  <a:pt x="22702" y="8289"/>
                  <a:pt x="22791" y="8313"/>
                  <a:pt x="22820" y="8359"/>
                </a:cubicBezTo>
                <a:cubicBezTo>
                  <a:pt x="22846" y="8401"/>
                  <a:pt x="22849" y="8357"/>
                  <a:pt x="22796" y="8384"/>
                </a:cubicBezTo>
                <a:cubicBezTo>
                  <a:pt x="22756" y="8404"/>
                  <a:pt x="22712" y="8414"/>
                  <a:pt x="22671" y="8434"/>
                </a:cubicBezTo>
                <a:cubicBezTo>
                  <a:pt x="22629" y="8454"/>
                  <a:pt x="22590" y="8490"/>
                  <a:pt x="22547" y="8508"/>
                </a:cubicBezTo>
                <a:cubicBezTo>
                  <a:pt x="22517" y="8521"/>
                  <a:pt x="22504" y="8522"/>
                  <a:pt x="22473" y="8533"/>
                </a:cubicBezTo>
                <a:cubicBezTo>
                  <a:pt x="22430" y="8548"/>
                  <a:pt x="22431" y="8541"/>
                  <a:pt x="22399" y="8558"/>
                </a:cubicBezTo>
                <a:cubicBezTo>
                  <a:pt x="22392" y="8561"/>
                  <a:pt x="22350" y="8601"/>
                  <a:pt x="22324" y="8607"/>
                </a:cubicBezTo>
                <a:cubicBezTo>
                  <a:pt x="22281" y="8616"/>
                  <a:pt x="22236" y="8623"/>
                  <a:pt x="22200" y="8632"/>
                </a:cubicBezTo>
                <a:cubicBezTo>
                  <a:pt x="22161" y="8642"/>
                  <a:pt x="22150" y="8658"/>
                  <a:pt x="22101" y="8657"/>
                </a:cubicBezTo>
                <a:cubicBezTo>
                  <a:pt x="22046" y="8656"/>
                  <a:pt x="22002" y="8650"/>
                  <a:pt x="21952" y="8632"/>
                </a:cubicBezTo>
                <a:cubicBezTo>
                  <a:pt x="21854" y="8596"/>
                  <a:pt x="21782" y="8562"/>
                  <a:pt x="21679" y="8533"/>
                </a:cubicBezTo>
                <a:cubicBezTo>
                  <a:pt x="21640" y="8522"/>
                  <a:pt x="21595" y="8518"/>
                  <a:pt x="21555" y="8508"/>
                </a:cubicBezTo>
                <a:cubicBezTo>
                  <a:pt x="21517" y="8499"/>
                  <a:pt x="21490" y="8498"/>
                  <a:pt x="21456" y="8483"/>
                </a:cubicBezTo>
                <a:cubicBezTo>
                  <a:pt x="21416" y="8465"/>
                  <a:pt x="21419" y="8450"/>
                  <a:pt x="21382" y="8434"/>
                </a:cubicBezTo>
                <a:cubicBezTo>
                  <a:pt x="21343" y="8417"/>
                  <a:pt x="21338" y="8424"/>
                  <a:pt x="21307" y="8409"/>
                </a:cubicBezTo>
                <a:cubicBezTo>
                  <a:pt x="21283" y="8398"/>
                  <a:pt x="21231" y="8367"/>
                  <a:pt x="21208" y="8359"/>
                </a:cubicBezTo>
                <a:cubicBezTo>
                  <a:pt x="21156" y="8342"/>
                  <a:pt x="21087" y="8349"/>
                  <a:pt x="21034" y="8334"/>
                </a:cubicBezTo>
                <a:cubicBezTo>
                  <a:pt x="21003" y="8325"/>
                  <a:pt x="20983" y="8323"/>
                  <a:pt x="20935" y="8310"/>
                </a:cubicBezTo>
                <a:cubicBezTo>
                  <a:pt x="20870" y="8293"/>
                  <a:pt x="20830" y="8287"/>
                  <a:pt x="20762" y="8285"/>
                </a:cubicBezTo>
                <a:cubicBezTo>
                  <a:pt x="20523" y="8279"/>
                  <a:pt x="20238" y="8256"/>
                  <a:pt x="20017" y="8310"/>
                </a:cubicBezTo>
                <a:cubicBezTo>
                  <a:pt x="19975" y="8320"/>
                  <a:pt x="19975" y="8330"/>
                  <a:pt x="19943" y="8334"/>
                </a:cubicBezTo>
                <a:cubicBezTo>
                  <a:pt x="19902" y="8339"/>
                  <a:pt x="19885" y="8354"/>
                  <a:pt x="19844" y="8359"/>
                </a:cubicBezTo>
                <a:cubicBezTo>
                  <a:pt x="19784" y="8366"/>
                  <a:pt x="19746" y="8369"/>
                  <a:pt x="19695" y="8384"/>
                </a:cubicBezTo>
                <a:cubicBezTo>
                  <a:pt x="19650" y="8398"/>
                  <a:pt x="19655" y="8395"/>
                  <a:pt x="19621" y="8409"/>
                </a:cubicBezTo>
                <a:cubicBezTo>
                  <a:pt x="19599" y="8418"/>
                  <a:pt x="19539" y="8454"/>
                  <a:pt x="19521" y="8458"/>
                </a:cubicBezTo>
                <a:cubicBezTo>
                  <a:pt x="19485" y="8466"/>
                  <a:pt x="19424" y="8479"/>
                  <a:pt x="19397" y="8483"/>
                </a:cubicBezTo>
                <a:cubicBezTo>
                  <a:pt x="19314" y="8495"/>
                  <a:pt x="19195" y="8503"/>
                  <a:pt x="19124" y="8508"/>
                </a:cubicBezTo>
                <a:cubicBezTo>
                  <a:pt x="18967" y="8519"/>
                  <a:pt x="18743" y="8454"/>
                  <a:pt x="18604" y="8533"/>
                </a:cubicBezTo>
                <a:cubicBezTo>
                  <a:pt x="18628" y="8533"/>
                  <a:pt x="18636" y="8533"/>
                  <a:pt x="18628" y="8558"/>
                </a:cubicBezTo>
                <a:cubicBezTo>
                  <a:pt x="18661" y="8573"/>
                  <a:pt x="18667" y="8600"/>
                  <a:pt x="18703" y="8607"/>
                </a:cubicBezTo>
                <a:cubicBezTo>
                  <a:pt x="18743" y="8615"/>
                  <a:pt x="18761" y="8583"/>
                  <a:pt x="18802" y="8582"/>
                </a:cubicBezTo>
                <a:cubicBezTo>
                  <a:pt x="18845" y="8581"/>
                  <a:pt x="18919" y="8559"/>
                  <a:pt x="18926" y="8558"/>
                </a:cubicBezTo>
                <a:cubicBezTo>
                  <a:pt x="18998" y="8549"/>
                  <a:pt x="19067" y="8577"/>
                  <a:pt x="19124" y="8582"/>
                </a:cubicBezTo>
                <a:cubicBezTo>
                  <a:pt x="19322" y="8598"/>
                  <a:pt x="19537" y="8573"/>
                  <a:pt x="19720" y="8558"/>
                </a:cubicBezTo>
                <a:cubicBezTo>
                  <a:pt x="19909" y="8543"/>
                  <a:pt x="20116" y="8568"/>
                  <a:pt x="20290" y="8582"/>
                </a:cubicBezTo>
                <a:cubicBezTo>
                  <a:pt x="20504" y="8599"/>
                  <a:pt x="20728" y="8590"/>
                  <a:pt x="20935" y="8607"/>
                </a:cubicBezTo>
                <a:cubicBezTo>
                  <a:pt x="20984" y="8611"/>
                  <a:pt x="21096" y="8631"/>
                  <a:pt x="21109" y="8632"/>
                </a:cubicBezTo>
                <a:cubicBezTo>
                  <a:pt x="21205" y="8641"/>
                  <a:pt x="21324" y="8650"/>
                  <a:pt x="21406" y="8657"/>
                </a:cubicBezTo>
                <a:cubicBezTo>
                  <a:pt x="21449" y="8661"/>
                  <a:pt x="21499" y="8679"/>
                  <a:pt x="21530" y="8682"/>
                </a:cubicBezTo>
                <a:cubicBezTo>
                  <a:pt x="21618" y="8692"/>
                  <a:pt x="21729" y="8700"/>
                  <a:pt x="21803" y="8706"/>
                </a:cubicBezTo>
                <a:cubicBezTo>
                  <a:pt x="21869" y="8711"/>
                  <a:pt x="21942" y="8727"/>
                  <a:pt x="22002" y="8731"/>
                </a:cubicBezTo>
                <a:cubicBezTo>
                  <a:pt x="22116" y="8739"/>
                  <a:pt x="22248" y="8747"/>
                  <a:pt x="22349" y="8756"/>
                </a:cubicBezTo>
                <a:cubicBezTo>
                  <a:pt x="22412" y="8761"/>
                  <a:pt x="22463" y="8773"/>
                  <a:pt x="22523" y="8781"/>
                </a:cubicBezTo>
                <a:cubicBezTo>
                  <a:pt x="22547" y="8781"/>
                  <a:pt x="22556" y="8781"/>
                  <a:pt x="22572" y="8781"/>
                </a:cubicBezTo>
                <a:cubicBezTo>
                  <a:pt x="22513" y="8785"/>
                  <a:pt x="22472" y="8795"/>
                  <a:pt x="22423" y="8806"/>
                </a:cubicBezTo>
                <a:cubicBezTo>
                  <a:pt x="22378" y="8816"/>
                  <a:pt x="22341" y="8820"/>
                  <a:pt x="22299" y="8830"/>
                </a:cubicBezTo>
                <a:cubicBezTo>
                  <a:pt x="22242" y="8844"/>
                  <a:pt x="22212" y="8848"/>
                  <a:pt x="22151" y="8855"/>
                </a:cubicBezTo>
                <a:cubicBezTo>
                  <a:pt x="21948" y="8877"/>
                  <a:pt x="21717" y="8843"/>
                  <a:pt x="21530" y="8830"/>
                </a:cubicBezTo>
                <a:cubicBezTo>
                  <a:pt x="21471" y="8826"/>
                  <a:pt x="21403" y="8811"/>
                  <a:pt x="21357" y="8806"/>
                </a:cubicBezTo>
                <a:cubicBezTo>
                  <a:pt x="21309" y="8801"/>
                  <a:pt x="21252" y="8785"/>
                  <a:pt x="21208" y="8781"/>
                </a:cubicBezTo>
                <a:cubicBezTo>
                  <a:pt x="21136" y="8774"/>
                  <a:pt x="21078" y="8770"/>
                  <a:pt x="21010" y="8756"/>
                </a:cubicBezTo>
                <a:cubicBezTo>
                  <a:pt x="20959" y="8746"/>
                  <a:pt x="20911" y="8742"/>
                  <a:pt x="20861" y="8731"/>
                </a:cubicBezTo>
                <a:cubicBezTo>
                  <a:pt x="20806" y="8719"/>
                  <a:pt x="20742" y="8710"/>
                  <a:pt x="20687" y="8706"/>
                </a:cubicBezTo>
                <a:cubicBezTo>
                  <a:pt x="20601" y="8700"/>
                  <a:pt x="20524" y="8688"/>
                  <a:pt x="20439" y="8682"/>
                </a:cubicBezTo>
                <a:cubicBezTo>
                  <a:pt x="20385" y="8678"/>
                  <a:pt x="20275" y="8656"/>
                  <a:pt x="20241" y="8657"/>
                </a:cubicBezTo>
                <a:cubicBezTo>
                  <a:pt x="20172" y="8660"/>
                  <a:pt x="20111" y="8679"/>
                  <a:pt x="20042" y="8682"/>
                </a:cubicBezTo>
                <a:cubicBezTo>
                  <a:pt x="19895" y="8689"/>
                  <a:pt x="19729" y="8695"/>
                  <a:pt x="19596" y="8706"/>
                </a:cubicBezTo>
                <a:cubicBezTo>
                  <a:pt x="19527" y="8712"/>
                  <a:pt x="19484" y="8717"/>
                  <a:pt x="19422" y="8731"/>
                </a:cubicBezTo>
                <a:cubicBezTo>
                  <a:pt x="19383" y="8740"/>
                  <a:pt x="19340" y="8744"/>
                  <a:pt x="19298" y="8756"/>
                </a:cubicBezTo>
                <a:cubicBezTo>
                  <a:pt x="19291" y="8758"/>
                  <a:pt x="19261" y="8777"/>
                  <a:pt x="19224" y="8781"/>
                </a:cubicBezTo>
                <a:cubicBezTo>
                  <a:pt x="19115" y="8794"/>
                  <a:pt x="18978" y="8778"/>
                  <a:pt x="18876" y="8756"/>
                </a:cubicBezTo>
                <a:cubicBezTo>
                  <a:pt x="18770" y="8733"/>
                  <a:pt x="18687" y="8712"/>
                  <a:pt x="18579" y="8706"/>
                </a:cubicBezTo>
                <a:cubicBezTo>
                  <a:pt x="18616" y="8696"/>
                  <a:pt x="18643" y="8692"/>
                  <a:pt x="18678" y="8682"/>
                </a:cubicBezTo>
                <a:cubicBezTo>
                  <a:pt x="18710" y="8673"/>
                  <a:pt x="18719" y="8661"/>
                  <a:pt x="18752" y="8657"/>
                </a:cubicBezTo>
                <a:cubicBezTo>
                  <a:pt x="18790" y="8652"/>
                  <a:pt x="18847" y="8633"/>
                  <a:pt x="18852" y="8632"/>
                </a:cubicBezTo>
                <a:cubicBezTo>
                  <a:pt x="18888" y="8622"/>
                  <a:pt x="18906" y="8612"/>
                  <a:pt x="18951" y="8607"/>
                </a:cubicBezTo>
                <a:cubicBezTo>
                  <a:pt x="19034" y="8597"/>
                  <a:pt x="19158" y="8628"/>
                  <a:pt x="19199" y="8632"/>
                </a:cubicBezTo>
                <a:cubicBezTo>
                  <a:pt x="19240" y="8636"/>
                  <a:pt x="19289" y="8655"/>
                  <a:pt x="19298" y="8657"/>
                </a:cubicBezTo>
                <a:cubicBezTo>
                  <a:pt x="19332" y="8665"/>
                  <a:pt x="19421" y="8706"/>
                  <a:pt x="19422" y="8706"/>
                </a:cubicBezTo>
                <a:cubicBezTo>
                  <a:pt x="19506" y="8724"/>
                  <a:pt x="19645" y="8725"/>
                  <a:pt x="19720" y="8731"/>
                </a:cubicBezTo>
                <a:cubicBezTo>
                  <a:pt x="19813" y="8739"/>
                  <a:pt x="19902" y="8749"/>
                  <a:pt x="19993" y="8756"/>
                </a:cubicBezTo>
                <a:cubicBezTo>
                  <a:pt x="20311" y="8781"/>
                  <a:pt x="20655" y="8755"/>
                  <a:pt x="20960" y="8781"/>
                </a:cubicBezTo>
                <a:cubicBezTo>
                  <a:pt x="21024" y="8786"/>
                  <a:pt x="21107" y="8802"/>
                  <a:pt x="21158" y="8806"/>
                </a:cubicBezTo>
                <a:cubicBezTo>
                  <a:pt x="21237" y="8813"/>
                  <a:pt x="21314" y="8817"/>
                  <a:pt x="21382" y="8830"/>
                </a:cubicBezTo>
                <a:cubicBezTo>
                  <a:pt x="21430" y="8839"/>
                  <a:pt x="21484" y="8850"/>
                  <a:pt x="21530" y="8855"/>
                </a:cubicBezTo>
                <a:cubicBezTo>
                  <a:pt x="21592" y="8862"/>
                  <a:pt x="21672" y="8875"/>
                  <a:pt x="21729" y="8880"/>
                </a:cubicBezTo>
                <a:cubicBezTo>
                  <a:pt x="21804" y="8886"/>
                  <a:pt x="21916" y="8859"/>
                  <a:pt x="21952" y="8905"/>
                </a:cubicBezTo>
                <a:cubicBezTo>
                  <a:pt x="21965" y="8921"/>
                  <a:pt x="21986" y="9025"/>
                  <a:pt x="22002" y="9054"/>
                </a:cubicBezTo>
                <a:cubicBezTo>
                  <a:pt x="22020" y="9086"/>
                  <a:pt x="22025" y="9102"/>
                  <a:pt x="22051" y="9128"/>
                </a:cubicBezTo>
                <a:cubicBezTo>
                  <a:pt x="22118" y="9195"/>
                  <a:pt x="22209" y="9261"/>
                  <a:pt x="22275" y="9327"/>
                </a:cubicBezTo>
                <a:cubicBezTo>
                  <a:pt x="22316" y="9368"/>
                  <a:pt x="22357" y="9404"/>
                  <a:pt x="22399" y="9451"/>
                </a:cubicBezTo>
                <a:cubicBezTo>
                  <a:pt x="22414" y="9467"/>
                  <a:pt x="22439" y="9504"/>
                  <a:pt x="22473" y="9525"/>
                </a:cubicBezTo>
                <a:cubicBezTo>
                  <a:pt x="22504" y="9544"/>
                  <a:pt x="22539" y="9550"/>
                  <a:pt x="22572" y="9575"/>
                </a:cubicBezTo>
                <a:cubicBezTo>
                  <a:pt x="22580" y="9583"/>
                  <a:pt x="22589" y="9591"/>
                  <a:pt x="22597" y="9599"/>
                </a:cubicBezTo>
                <a:cubicBezTo>
                  <a:pt x="22566" y="9620"/>
                  <a:pt x="22533" y="9657"/>
                  <a:pt x="22498" y="9674"/>
                </a:cubicBezTo>
                <a:cubicBezTo>
                  <a:pt x="22464" y="9690"/>
                  <a:pt x="22451" y="9689"/>
                  <a:pt x="22423" y="9699"/>
                </a:cubicBezTo>
                <a:cubicBezTo>
                  <a:pt x="22383" y="9714"/>
                  <a:pt x="22381" y="9712"/>
                  <a:pt x="22349" y="9723"/>
                </a:cubicBezTo>
                <a:cubicBezTo>
                  <a:pt x="22315" y="9734"/>
                  <a:pt x="22318" y="9734"/>
                  <a:pt x="22275" y="9748"/>
                </a:cubicBezTo>
                <a:cubicBezTo>
                  <a:pt x="22243" y="9759"/>
                  <a:pt x="22232" y="9762"/>
                  <a:pt x="22200" y="9773"/>
                </a:cubicBezTo>
                <a:cubicBezTo>
                  <a:pt x="22169" y="9784"/>
                  <a:pt x="22159" y="9794"/>
                  <a:pt x="22126" y="9798"/>
                </a:cubicBezTo>
                <a:cubicBezTo>
                  <a:pt x="22081" y="9804"/>
                  <a:pt x="21987" y="9822"/>
                  <a:pt x="21977" y="9823"/>
                </a:cubicBezTo>
                <a:cubicBezTo>
                  <a:pt x="21647" y="9865"/>
                  <a:pt x="21308" y="9782"/>
                  <a:pt x="20985" y="9773"/>
                </a:cubicBezTo>
                <a:cubicBezTo>
                  <a:pt x="20940" y="9772"/>
                  <a:pt x="20844" y="9749"/>
                  <a:pt x="20836" y="9748"/>
                </a:cubicBezTo>
                <a:cubicBezTo>
                  <a:pt x="20753" y="9741"/>
                  <a:pt x="20665" y="9729"/>
                  <a:pt x="20588" y="9723"/>
                </a:cubicBezTo>
                <a:cubicBezTo>
                  <a:pt x="20517" y="9717"/>
                  <a:pt x="20423" y="9704"/>
                  <a:pt x="20365" y="9699"/>
                </a:cubicBezTo>
                <a:cubicBezTo>
                  <a:pt x="20271" y="9692"/>
                  <a:pt x="20185" y="9689"/>
                  <a:pt x="20092" y="9674"/>
                </a:cubicBezTo>
                <a:cubicBezTo>
                  <a:pt x="20008" y="9660"/>
                  <a:pt x="19925" y="9641"/>
                  <a:pt x="19844" y="9624"/>
                </a:cubicBezTo>
                <a:cubicBezTo>
                  <a:pt x="19777" y="9610"/>
                  <a:pt x="19714" y="9604"/>
                  <a:pt x="19645" y="9599"/>
                </a:cubicBezTo>
                <a:cubicBezTo>
                  <a:pt x="19603" y="9596"/>
                  <a:pt x="19550" y="9577"/>
                  <a:pt x="19521" y="9575"/>
                </a:cubicBezTo>
                <a:cubicBezTo>
                  <a:pt x="19456" y="9570"/>
                  <a:pt x="19388" y="9575"/>
                  <a:pt x="19323" y="9575"/>
                </a:cubicBezTo>
                <a:cubicBezTo>
                  <a:pt x="19323" y="9483"/>
                  <a:pt x="19293" y="9359"/>
                  <a:pt x="19298" y="9277"/>
                </a:cubicBezTo>
                <a:cubicBezTo>
                  <a:pt x="19301" y="9223"/>
                  <a:pt x="19294" y="9228"/>
                  <a:pt x="19323" y="9203"/>
                </a:cubicBezTo>
                <a:cubicBezTo>
                  <a:pt x="19372" y="9161"/>
                  <a:pt x="19423" y="9157"/>
                  <a:pt x="19472" y="9128"/>
                </a:cubicBezTo>
                <a:cubicBezTo>
                  <a:pt x="19523" y="9098"/>
                  <a:pt x="19541" y="9078"/>
                  <a:pt x="19596" y="9054"/>
                </a:cubicBezTo>
                <a:cubicBezTo>
                  <a:pt x="19623" y="9042"/>
                  <a:pt x="19692" y="9010"/>
                  <a:pt x="19720" y="9004"/>
                </a:cubicBezTo>
                <a:cubicBezTo>
                  <a:pt x="19769" y="8994"/>
                  <a:pt x="19795" y="8984"/>
                  <a:pt x="19844" y="8979"/>
                </a:cubicBezTo>
                <a:cubicBezTo>
                  <a:pt x="19877" y="8976"/>
                  <a:pt x="20005" y="8958"/>
                  <a:pt x="19993" y="9004"/>
                </a:cubicBezTo>
                <a:cubicBezTo>
                  <a:pt x="19976" y="9070"/>
                  <a:pt x="19938" y="9035"/>
                  <a:pt x="19893" y="9054"/>
                </a:cubicBezTo>
                <a:cubicBezTo>
                  <a:pt x="19843" y="9075"/>
                  <a:pt x="19847" y="9071"/>
                  <a:pt x="19794" y="9079"/>
                </a:cubicBezTo>
                <a:cubicBezTo>
                  <a:pt x="19769" y="9079"/>
                  <a:pt x="19761" y="9079"/>
                  <a:pt x="19745" y="9079"/>
                </a:cubicBezTo>
                <a:cubicBezTo>
                  <a:pt x="19741" y="9086"/>
                  <a:pt x="19628" y="9110"/>
                  <a:pt x="19695" y="9103"/>
                </a:cubicBezTo>
                <a:cubicBezTo>
                  <a:pt x="19827" y="9090"/>
                  <a:pt x="19958" y="9071"/>
                  <a:pt x="20092" y="9054"/>
                </a:cubicBezTo>
                <a:cubicBezTo>
                  <a:pt x="20336" y="9024"/>
                  <a:pt x="20564" y="8979"/>
                  <a:pt x="20811" y="8979"/>
                </a:cubicBezTo>
                <a:cubicBezTo>
                  <a:pt x="21045" y="8979"/>
                  <a:pt x="21313" y="8957"/>
                  <a:pt x="21530" y="9004"/>
                </a:cubicBezTo>
                <a:cubicBezTo>
                  <a:pt x="21558" y="9010"/>
                  <a:pt x="21620" y="9018"/>
                  <a:pt x="21654" y="9029"/>
                </a:cubicBezTo>
                <a:cubicBezTo>
                  <a:pt x="21696" y="9043"/>
                  <a:pt x="21734" y="9068"/>
                  <a:pt x="21779" y="9079"/>
                </a:cubicBezTo>
                <a:cubicBezTo>
                  <a:pt x="21819" y="9089"/>
                  <a:pt x="21862" y="9095"/>
                  <a:pt x="21903" y="9103"/>
                </a:cubicBezTo>
                <a:cubicBezTo>
                  <a:pt x="21855" y="9130"/>
                  <a:pt x="21803" y="9154"/>
                  <a:pt x="21754" y="9178"/>
                </a:cubicBezTo>
                <a:cubicBezTo>
                  <a:pt x="21708" y="9201"/>
                  <a:pt x="21669" y="9209"/>
                  <a:pt x="21630" y="9227"/>
                </a:cubicBezTo>
                <a:cubicBezTo>
                  <a:pt x="21580" y="9250"/>
                  <a:pt x="21533" y="9257"/>
                  <a:pt x="21481" y="9277"/>
                </a:cubicBezTo>
                <a:cubicBezTo>
                  <a:pt x="21439" y="9293"/>
                  <a:pt x="21409" y="9321"/>
                  <a:pt x="21357" y="9327"/>
                </a:cubicBezTo>
                <a:cubicBezTo>
                  <a:pt x="21181" y="9349"/>
                  <a:pt x="21006" y="9307"/>
                  <a:pt x="20836" y="9302"/>
                </a:cubicBezTo>
                <a:cubicBezTo>
                  <a:pt x="20770" y="9300"/>
                  <a:pt x="20704" y="9302"/>
                  <a:pt x="20638" y="9302"/>
                </a:cubicBezTo>
                <a:cubicBezTo>
                  <a:pt x="20706" y="9287"/>
                  <a:pt x="20768" y="9273"/>
                  <a:pt x="20836" y="9252"/>
                </a:cubicBezTo>
                <a:cubicBezTo>
                  <a:pt x="20947" y="9219"/>
                  <a:pt x="21032" y="9180"/>
                  <a:pt x="21134" y="9128"/>
                </a:cubicBezTo>
                <a:cubicBezTo>
                  <a:pt x="21201" y="9094"/>
                  <a:pt x="21267" y="9078"/>
                  <a:pt x="21332" y="9054"/>
                </a:cubicBezTo>
                <a:cubicBezTo>
                  <a:pt x="21421" y="9021"/>
                  <a:pt x="21425" y="9008"/>
                  <a:pt x="21530" y="9004"/>
                </a:cubicBezTo>
                <a:cubicBezTo>
                  <a:pt x="21638" y="9000"/>
                  <a:pt x="21736" y="8999"/>
                  <a:pt x="21828" y="8979"/>
                </a:cubicBezTo>
                <a:cubicBezTo>
                  <a:pt x="21858" y="8973"/>
                  <a:pt x="21925" y="8930"/>
                  <a:pt x="21927" y="8930"/>
                </a:cubicBezTo>
                <a:cubicBezTo>
                  <a:pt x="21967" y="8922"/>
                  <a:pt x="22015" y="8909"/>
                  <a:pt x="22027" y="8905"/>
                </a:cubicBezTo>
                <a:cubicBezTo>
                  <a:pt x="22058" y="8895"/>
                  <a:pt x="22069" y="8889"/>
                  <a:pt x="22101" y="8880"/>
                </a:cubicBezTo>
                <a:cubicBezTo>
                  <a:pt x="22149" y="8866"/>
                  <a:pt x="22202" y="8860"/>
                  <a:pt x="22250" y="8855"/>
                </a:cubicBezTo>
                <a:cubicBezTo>
                  <a:pt x="22329" y="8848"/>
                  <a:pt x="22424" y="8835"/>
                  <a:pt x="22498" y="8830"/>
                </a:cubicBezTo>
                <a:cubicBezTo>
                  <a:pt x="22562" y="8826"/>
                  <a:pt x="22557" y="8814"/>
                  <a:pt x="22622" y="8830"/>
                </a:cubicBezTo>
                <a:cubicBezTo>
                  <a:pt x="22696" y="8849"/>
                  <a:pt x="22714" y="8901"/>
                  <a:pt x="22771" y="8930"/>
                </a:cubicBezTo>
                <a:cubicBezTo>
                  <a:pt x="22776" y="8932"/>
                  <a:pt x="22842" y="8950"/>
                  <a:pt x="22845" y="8954"/>
                </a:cubicBezTo>
                <a:cubicBezTo>
                  <a:pt x="22865" y="8981"/>
                  <a:pt x="22820" y="8946"/>
                  <a:pt x="22820" y="8979"/>
                </a:cubicBezTo>
                <a:cubicBezTo>
                  <a:pt x="22820" y="9053"/>
                  <a:pt x="22799" y="9167"/>
                  <a:pt x="22796" y="9203"/>
                </a:cubicBezTo>
                <a:cubicBezTo>
                  <a:pt x="22784" y="9336"/>
                  <a:pt x="22799" y="9503"/>
                  <a:pt x="22771" y="9599"/>
                </a:cubicBezTo>
                <a:cubicBezTo>
                  <a:pt x="22756" y="9651"/>
                  <a:pt x="22784" y="9647"/>
                  <a:pt x="22746" y="9674"/>
                </a:cubicBezTo>
                <a:cubicBezTo>
                  <a:pt x="22729" y="9686"/>
                  <a:pt x="22668" y="9691"/>
                  <a:pt x="22647" y="9699"/>
                </a:cubicBezTo>
                <a:cubicBezTo>
                  <a:pt x="22608" y="9714"/>
                  <a:pt x="22603" y="9713"/>
                  <a:pt x="22572" y="9723"/>
                </a:cubicBezTo>
                <a:cubicBezTo>
                  <a:pt x="22534" y="9735"/>
                  <a:pt x="22527" y="9744"/>
                  <a:pt x="22498" y="9748"/>
                </a:cubicBezTo>
                <a:cubicBezTo>
                  <a:pt x="22379" y="9763"/>
                  <a:pt x="22233" y="9764"/>
                  <a:pt x="22126" y="9773"/>
                </a:cubicBezTo>
                <a:cubicBezTo>
                  <a:pt x="21718" y="9807"/>
                  <a:pt x="21254" y="9789"/>
                  <a:pt x="20861" y="9723"/>
                </a:cubicBezTo>
                <a:cubicBezTo>
                  <a:pt x="20797" y="9712"/>
                  <a:pt x="20726" y="9712"/>
                  <a:pt x="20662" y="9699"/>
                </a:cubicBezTo>
                <a:cubicBezTo>
                  <a:pt x="20631" y="9693"/>
                  <a:pt x="20595" y="9681"/>
                  <a:pt x="20563" y="9674"/>
                </a:cubicBezTo>
                <a:cubicBezTo>
                  <a:pt x="20581" y="9689"/>
                  <a:pt x="20604" y="9727"/>
                  <a:pt x="20638" y="9748"/>
                </a:cubicBezTo>
                <a:cubicBezTo>
                  <a:pt x="20659" y="9761"/>
                  <a:pt x="20695" y="9769"/>
                  <a:pt x="20712" y="9773"/>
                </a:cubicBezTo>
                <a:cubicBezTo>
                  <a:pt x="20769" y="9786"/>
                  <a:pt x="20753" y="9771"/>
                  <a:pt x="20811" y="9773"/>
                </a:cubicBezTo>
                <a:cubicBezTo>
                  <a:pt x="20867" y="9775"/>
                  <a:pt x="20891" y="9759"/>
                  <a:pt x="20935" y="9748"/>
                </a:cubicBezTo>
                <a:cubicBezTo>
                  <a:pt x="20968" y="9740"/>
                  <a:pt x="21007" y="9730"/>
                  <a:pt x="21034" y="9723"/>
                </a:cubicBezTo>
                <a:cubicBezTo>
                  <a:pt x="21002" y="9734"/>
                  <a:pt x="21066" y="9712"/>
                  <a:pt x="21034" y="9723"/>
                </a:cubicBezTo>
                <a:cubicBezTo>
                  <a:pt x="21001" y="9734"/>
                  <a:pt x="21002" y="9734"/>
                  <a:pt x="20960" y="9748"/>
                </a:cubicBezTo>
                <a:cubicBezTo>
                  <a:pt x="20926" y="9759"/>
                  <a:pt x="20929" y="9759"/>
                  <a:pt x="20886" y="9773"/>
                </a:cubicBezTo>
                <a:cubicBezTo>
                  <a:pt x="20854" y="9784"/>
                  <a:pt x="20844" y="9794"/>
                  <a:pt x="20811" y="9798"/>
                </a:cubicBezTo>
                <a:cubicBezTo>
                  <a:pt x="20626" y="9821"/>
                  <a:pt x="20463" y="9775"/>
                  <a:pt x="20290" y="9748"/>
                </a:cubicBezTo>
                <a:cubicBezTo>
                  <a:pt x="20142" y="9725"/>
                  <a:pt x="19969" y="9711"/>
                  <a:pt x="19819" y="9699"/>
                </a:cubicBezTo>
                <a:cubicBezTo>
                  <a:pt x="19690" y="9688"/>
                  <a:pt x="19550" y="9694"/>
                  <a:pt x="19422" y="9674"/>
                </a:cubicBezTo>
                <a:cubicBezTo>
                  <a:pt x="19386" y="9668"/>
                  <a:pt x="19399" y="9635"/>
                  <a:pt x="19348" y="9649"/>
                </a:cubicBezTo>
                <a:cubicBezTo>
                  <a:pt x="19307" y="9661"/>
                  <a:pt x="19328" y="9680"/>
                  <a:pt x="19273" y="9699"/>
                </a:cubicBezTo>
                <a:cubicBezTo>
                  <a:pt x="19229" y="9714"/>
                  <a:pt x="19169" y="9718"/>
                  <a:pt x="19124" y="9723"/>
                </a:cubicBezTo>
                <a:cubicBezTo>
                  <a:pt x="19030" y="9733"/>
                  <a:pt x="18909" y="9718"/>
                  <a:pt x="18852" y="9699"/>
                </a:cubicBezTo>
                <a:cubicBezTo>
                  <a:pt x="18801" y="9681"/>
                  <a:pt x="18757" y="9656"/>
                  <a:pt x="18703" y="9649"/>
                </a:cubicBezTo>
                <a:cubicBezTo>
                  <a:pt x="18614" y="9638"/>
                  <a:pt x="18519" y="9649"/>
                  <a:pt x="18430" y="9649"/>
                </a:cubicBezTo>
                <a:cubicBezTo>
                  <a:pt x="18440" y="9628"/>
                  <a:pt x="18476" y="9588"/>
                  <a:pt x="18479" y="9575"/>
                </a:cubicBezTo>
                <a:cubicBezTo>
                  <a:pt x="18493" y="9505"/>
                  <a:pt x="18474" y="9512"/>
                  <a:pt x="18504" y="9475"/>
                </a:cubicBezTo>
                <a:cubicBezTo>
                  <a:pt x="18525" y="9448"/>
                  <a:pt x="18541" y="9457"/>
                  <a:pt x="18579" y="9426"/>
                </a:cubicBezTo>
                <a:cubicBezTo>
                  <a:pt x="18608" y="9403"/>
                  <a:pt x="18620" y="9392"/>
                  <a:pt x="18653" y="9376"/>
                </a:cubicBezTo>
                <a:cubicBezTo>
                  <a:pt x="18690" y="9358"/>
                  <a:pt x="18698" y="9368"/>
                  <a:pt x="18728" y="9351"/>
                </a:cubicBezTo>
                <a:cubicBezTo>
                  <a:pt x="18760" y="9333"/>
                  <a:pt x="18825" y="9320"/>
                  <a:pt x="18852" y="9302"/>
                </a:cubicBezTo>
                <a:cubicBezTo>
                  <a:pt x="18861" y="9296"/>
                  <a:pt x="18877" y="9268"/>
                  <a:pt x="18901" y="9252"/>
                </a:cubicBezTo>
                <a:cubicBezTo>
                  <a:pt x="18877" y="9236"/>
                  <a:pt x="18840" y="9202"/>
                  <a:pt x="18802" y="9178"/>
                </a:cubicBezTo>
                <a:cubicBezTo>
                  <a:pt x="18770" y="9158"/>
                  <a:pt x="18755" y="9127"/>
                  <a:pt x="18728" y="9128"/>
                </a:cubicBezTo>
                <a:cubicBezTo>
                  <a:pt x="18667" y="9131"/>
                  <a:pt x="18663" y="9158"/>
                  <a:pt x="18604" y="9178"/>
                </a:cubicBezTo>
                <a:cubicBezTo>
                  <a:pt x="18572" y="9189"/>
                  <a:pt x="18551" y="9203"/>
                  <a:pt x="18529" y="9203"/>
                </a:cubicBezTo>
                <a:cubicBezTo>
                  <a:pt x="18497" y="9203"/>
                  <a:pt x="18465" y="9185"/>
                  <a:pt x="18430" y="9178"/>
                </a:cubicBezTo>
                <a:cubicBezTo>
                  <a:pt x="18362" y="9164"/>
                  <a:pt x="18475" y="9194"/>
                  <a:pt x="18504" y="9203"/>
                </a:cubicBezTo>
                <a:cubicBezTo>
                  <a:pt x="18541" y="9215"/>
                  <a:pt x="18563" y="9221"/>
                  <a:pt x="18604" y="9227"/>
                </a:cubicBezTo>
                <a:cubicBezTo>
                  <a:pt x="18674" y="9237"/>
                  <a:pt x="18745" y="9216"/>
                  <a:pt x="18802" y="9203"/>
                </a:cubicBezTo>
                <a:cubicBezTo>
                  <a:pt x="18844" y="9194"/>
                  <a:pt x="18883" y="9186"/>
                  <a:pt x="18926" y="9178"/>
                </a:cubicBezTo>
                <a:cubicBezTo>
                  <a:pt x="18986" y="9166"/>
                  <a:pt x="18990" y="9144"/>
                  <a:pt x="19075" y="9153"/>
                </a:cubicBezTo>
                <a:cubicBezTo>
                  <a:pt x="19096" y="9155"/>
                  <a:pt x="19169" y="9169"/>
                  <a:pt x="19199" y="9178"/>
                </a:cubicBezTo>
                <a:cubicBezTo>
                  <a:pt x="19233" y="9188"/>
                  <a:pt x="19286" y="9213"/>
                  <a:pt x="19323" y="9227"/>
                </a:cubicBezTo>
                <a:cubicBezTo>
                  <a:pt x="19372" y="9245"/>
                  <a:pt x="19448" y="9278"/>
                  <a:pt x="19496" y="9302"/>
                </a:cubicBezTo>
                <a:cubicBezTo>
                  <a:pt x="19569" y="9338"/>
                  <a:pt x="19629" y="9349"/>
                  <a:pt x="19695" y="9376"/>
                </a:cubicBezTo>
                <a:cubicBezTo>
                  <a:pt x="19723" y="9376"/>
                  <a:pt x="19734" y="9378"/>
                  <a:pt x="19745" y="9401"/>
                </a:cubicBezTo>
                <a:cubicBezTo>
                  <a:pt x="19700" y="9421"/>
                  <a:pt x="19648" y="9457"/>
                  <a:pt x="19596" y="9475"/>
                </a:cubicBezTo>
                <a:cubicBezTo>
                  <a:pt x="19537" y="9496"/>
                  <a:pt x="19485" y="9535"/>
                  <a:pt x="19447" y="9550"/>
                </a:cubicBezTo>
                <a:cubicBezTo>
                  <a:pt x="19425" y="9559"/>
                  <a:pt x="19367" y="9570"/>
                  <a:pt x="19348" y="9575"/>
                </a:cubicBezTo>
                <a:cubicBezTo>
                  <a:pt x="19308" y="9586"/>
                  <a:pt x="19363" y="9565"/>
                  <a:pt x="19323" y="9575"/>
                </a:cubicBezTo>
                <a:cubicBezTo>
                  <a:pt x="19389" y="9583"/>
                  <a:pt x="19454" y="9594"/>
                  <a:pt x="19521" y="9599"/>
                </a:cubicBezTo>
                <a:cubicBezTo>
                  <a:pt x="19608" y="9605"/>
                  <a:pt x="19684" y="9610"/>
                  <a:pt x="19769" y="9624"/>
                </a:cubicBezTo>
                <a:cubicBezTo>
                  <a:pt x="19868" y="9640"/>
                  <a:pt x="19967" y="9635"/>
                  <a:pt x="20067" y="9649"/>
                </a:cubicBezTo>
                <a:cubicBezTo>
                  <a:pt x="20106" y="9654"/>
                  <a:pt x="20135" y="9667"/>
                  <a:pt x="20166" y="9674"/>
                </a:cubicBezTo>
                <a:cubicBezTo>
                  <a:pt x="20212" y="9684"/>
                  <a:pt x="20300" y="9704"/>
                  <a:pt x="20340" y="9723"/>
                </a:cubicBezTo>
                <a:cubicBezTo>
                  <a:pt x="20375" y="9740"/>
                  <a:pt x="20403" y="9784"/>
                  <a:pt x="20439" y="9798"/>
                </a:cubicBezTo>
                <a:cubicBezTo>
                  <a:pt x="20467" y="9809"/>
                  <a:pt x="20532" y="9845"/>
                  <a:pt x="20538" y="9847"/>
                </a:cubicBezTo>
                <a:cubicBezTo>
                  <a:pt x="20570" y="9860"/>
                  <a:pt x="20607" y="9856"/>
                  <a:pt x="20638" y="9872"/>
                </a:cubicBezTo>
                <a:cubicBezTo>
                  <a:pt x="20677" y="9892"/>
                  <a:pt x="20723" y="9904"/>
                  <a:pt x="20762" y="9922"/>
                </a:cubicBezTo>
                <a:cubicBezTo>
                  <a:pt x="20784" y="9945"/>
                  <a:pt x="20789" y="9953"/>
                  <a:pt x="20811" y="9947"/>
                </a:cubicBezTo>
                <a:cubicBezTo>
                  <a:pt x="20774" y="9956"/>
                  <a:pt x="20747" y="9962"/>
                  <a:pt x="20712" y="9971"/>
                </a:cubicBezTo>
                <a:cubicBezTo>
                  <a:pt x="20683" y="9978"/>
                  <a:pt x="20649" y="9988"/>
                  <a:pt x="20613" y="9996"/>
                </a:cubicBezTo>
                <a:cubicBezTo>
                  <a:pt x="20575" y="10004"/>
                  <a:pt x="20526" y="10029"/>
                  <a:pt x="20489" y="10021"/>
                </a:cubicBezTo>
                <a:cubicBezTo>
                  <a:pt x="20482" y="10020"/>
                  <a:pt x="20431" y="9975"/>
                  <a:pt x="20389" y="9971"/>
                </a:cubicBezTo>
                <a:cubicBezTo>
                  <a:pt x="20330" y="9966"/>
                  <a:pt x="20291" y="9960"/>
                  <a:pt x="20241" y="9947"/>
                </a:cubicBezTo>
                <a:cubicBezTo>
                  <a:pt x="20209" y="9939"/>
                  <a:pt x="20198" y="9931"/>
                  <a:pt x="20166" y="9922"/>
                </a:cubicBezTo>
                <a:cubicBezTo>
                  <a:pt x="20132" y="9913"/>
                  <a:pt x="20100" y="9901"/>
                  <a:pt x="20067" y="9897"/>
                </a:cubicBezTo>
                <a:cubicBezTo>
                  <a:pt x="20013" y="9891"/>
                  <a:pt x="19935" y="9876"/>
                  <a:pt x="19893" y="9872"/>
                </a:cubicBezTo>
                <a:cubicBezTo>
                  <a:pt x="19722" y="9856"/>
                  <a:pt x="19537" y="9860"/>
                  <a:pt x="19372" y="9847"/>
                </a:cubicBezTo>
                <a:cubicBezTo>
                  <a:pt x="19315" y="9842"/>
                  <a:pt x="19273" y="9828"/>
                  <a:pt x="19224" y="9823"/>
                </a:cubicBezTo>
                <a:cubicBezTo>
                  <a:pt x="19015" y="9800"/>
                  <a:pt x="18789" y="9823"/>
                  <a:pt x="18579" y="9823"/>
                </a:cubicBezTo>
                <a:cubicBezTo>
                  <a:pt x="18656" y="9818"/>
                  <a:pt x="18727" y="9813"/>
                  <a:pt x="18802" y="9798"/>
                </a:cubicBezTo>
                <a:cubicBezTo>
                  <a:pt x="18864" y="9785"/>
                  <a:pt x="18918" y="9763"/>
                  <a:pt x="18976" y="9748"/>
                </a:cubicBezTo>
                <a:cubicBezTo>
                  <a:pt x="19008" y="9740"/>
                  <a:pt x="19019" y="9733"/>
                  <a:pt x="19050" y="9723"/>
                </a:cubicBezTo>
                <a:cubicBezTo>
                  <a:pt x="19110" y="9704"/>
                  <a:pt x="19194" y="9696"/>
                  <a:pt x="19248" y="9674"/>
                </a:cubicBezTo>
                <a:cubicBezTo>
                  <a:pt x="19282" y="9660"/>
                  <a:pt x="19287" y="9631"/>
                  <a:pt x="19323" y="9624"/>
                </a:cubicBezTo>
                <a:cubicBezTo>
                  <a:pt x="19469" y="9594"/>
                  <a:pt x="19589" y="9675"/>
                  <a:pt x="19720" y="9699"/>
                </a:cubicBezTo>
                <a:cubicBezTo>
                  <a:pt x="19784" y="9711"/>
                  <a:pt x="19881" y="9718"/>
                  <a:pt x="19943" y="9723"/>
                </a:cubicBezTo>
                <a:cubicBezTo>
                  <a:pt x="19997" y="9727"/>
                  <a:pt x="20022" y="9735"/>
                  <a:pt x="20067" y="9748"/>
                </a:cubicBezTo>
                <a:cubicBezTo>
                  <a:pt x="20102" y="9758"/>
                  <a:pt x="20095" y="9761"/>
                  <a:pt x="20141" y="9773"/>
                </a:cubicBezTo>
                <a:cubicBezTo>
                  <a:pt x="20177" y="9783"/>
                  <a:pt x="20202" y="9789"/>
                  <a:pt x="20241" y="9798"/>
                </a:cubicBezTo>
                <a:cubicBezTo>
                  <a:pt x="20290" y="9809"/>
                  <a:pt x="20340" y="9812"/>
                  <a:pt x="20389" y="9823"/>
                </a:cubicBezTo>
                <a:cubicBezTo>
                  <a:pt x="20445" y="9836"/>
                  <a:pt x="20484" y="9842"/>
                  <a:pt x="20538" y="9847"/>
                </a:cubicBezTo>
                <a:cubicBezTo>
                  <a:pt x="20601" y="9853"/>
                  <a:pt x="20687" y="9868"/>
                  <a:pt x="20737" y="9872"/>
                </a:cubicBezTo>
                <a:cubicBezTo>
                  <a:pt x="20796" y="9876"/>
                  <a:pt x="20865" y="9892"/>
                  <a:pt x="20910" y="9897"/>
                </a:cubicBezTo>
                <a:cubicBezTo>
                  <a:pt x="20951" y="9902"/>
                  <a:pt x="21005" y="9919"/>
                  <a:pt x="21034" y="9922"/>
                </a:cubicBezTo>
                <a:cubicBezTo>
                  <a:pt x="21137" y="9933"/>
                  <a:pt x="21243" y="9917"/>
                  <a:pt x="21332" y="9897"/>
                </a:cubicBezTo>
                <a:cubicBezTo>
                  <a:pt x="21399" y="9882"/>
                  <a:pt x="21416" y="9874"/>
                  <a:pt x="21481" y="9847"/>
                </a:cubicBezTo>
                <a:cubicBezTo>
                  <a:pt x="21509" y="9847"/>
                  <a:pt x="21519" y="9845"/>
                  <a:pt x="21530" y="982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3830760"/>
            <a:ext cx="1189080" cy="44280"/>
          </a:xfrm>
          <a:custGeom>
            <a:avLst/>
            <a:gdLst/>
            <a:ahLst/>
            <a:rect l="l" t="t" r="r" b="b"/>
            <a:pathLst>
              <a:path w="3300" h="125">
                <a:moveTo>
                  <a:pt x="3101" y="10716"/>
                </a:moveTo>
                <a:cubicBezTo>
                  <a:pt x="3150" y="10712"/>
                  <a:pt x="3159" y="10705"/>
                  <a:pt x="3200" y="10691"/>
                </a:cubicBezTo>
                <a:cubicBezTo>
                  <a:pt x="3243" y="10676"/>
                  <a:pt x="3279" y="10677"/>
                  <a:pt x="3324" y="10666"/>
                </a:cubicBezTo>
                <a:cubicBezTo>
                  <a:pt x="3332" y="10666"/>
                  <a:pt x="3341" y="10666"/>
                  <a:pt x="3349" y="10666"/>
                </a:cubicBezTo>
                <a:cubicBezTo>
                  <a:pt x="3362" y="10662"/>
                  <a:pt x="3378" y="10643"/>
                  <a:pt x="3423" y="10641"/>
                </a:cubicBezTo>
                <a:cubicBezTo>
                  <a:pt x="3536" y="10637"/>
                  <a:pt x="3648" y="10654"/>
                  <a:pt x="3746" y="10666"/>
                </a:cubicBezTo>
                <a:cubicBezTo>
                  <a:pt x="3788" y="10671"/>
                  <a:pt x="3839" y="10687"/>
                  <a:pt x="3870" y="10691"/>
                </a:cubicBezTo>
                <a:cubicBezTo>
                  <a:pt x="3934" y="10699"/>
                  <a:pt x="4004" y="10691"/>
                  <a:pt x="4068" y="10691"/>
                </a:cubicBezTo>
                <a:cubicBezTo>
                  <a:pt x="4080" y="10695"/>
                  <a:pt x="4098" y="10714"/>
                  <a:pt x="4142" y="10716"/>
                </a:cubicBezTo>
                <a:cubicBezTo>
                  <a:pt x="4381" y="10726"/>
                  <a:pt x="4623" y="10716"/>
                  <a:pt x="4862" y="10716"/>
                </a:cubicBezTo>
                <a:cubicBezTo>
                  <a:pt x="4875" y="10712"/>
                  <a:pt x="4892" y="10693"/>
                  <a:pt x="4936" y="10691"/>
                </a:cubicBezTo>
                <a:cubicBezTo>
                  <a:pt x="5035" y="10687"/>
                  <a:pt x="5135" y="10691"/>
                  <a:pt x="5234" y="10691"/>
                </a:cubicBezTo>
                <a:cubicBezTo>
                  <a:pt x="5241" y="10693"/>
                  <a:pt x="5303" y="10736"/>
                  <a:pt x="5333" y="10740"/>
                </a:cubicBezTo>
                <a:cubicBezTo>
                  <a:pt x="5411" y="10750"/>
                  <a:pt x="5514" y="10758"/>
                  <a:pt x="5581" y="10765"/>
                </a:cubicBezTo>
                <a:cubicBezTo>
                  <a:pt x="5775" y="10785"/>
                  <a:pt x="5981" y="10765"/>
                  <a:pt x="6176" y="10765"/>
                </a:cubicBezTo>
                <a:cubicBezTo>
                  <a:pt x="6191" y="10759"/>
                  <a:pt x="6206" y="10743"/>
                  <a:pt x="6251" y="10740"/>
                </a:cubicBezTo>
                <a:cubicBezTo>
                  <a:pt x="6259" y="10740"/>
                  <a:pt x="6268" y="10740"/>
                  <a:pt x="6276" y="10740"/>
                </a:cubicBezTo>
                <a:cubicBezTo>
                  <a:pt x="6292" y="10733"/>
                  <a:pt x="6306" y="10721"/>
                  <a:pt x="6350" y="10716"/>
                </a:cubicBezTo>
                <a:cubicBezTo>
                  <a:pt x="6352" y="10715"/>
                  <a:pt x="6383" y="10699"/>
                  <a:pt x="6400" y="10691"/>
                </a:cubicBezTo>
                <a:cubicBezTo>
                  <a:pt x="6369" y="10678"/>
                  <a:pt x="6364" y="10683"/>
                  <a:pt x="6325" y="10666"/>
                </a:cubicBezTo>
              </a:path>
            </a:pathLst>
          </a:custGeom>
          <a:noFill/>
          <a:ln cap="sq" w="228600">
            <a:solidFill>
              <a:srgbClr val="0000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07080" y="3840120"/>
            <a:ext cx="1814760" cy="61920"/>
          </a:xfrm>
          <a:custGeom>
            <a:avLst/>
            <a:gdLst/>
            <a:ahLst/>
            <a:rect l="l" t="t" r="r" b="b"/>
            <a:pathLst>
              <a:path w="5037" h="175">
                <a:moveTo>
                  <a:pt x="18355" y="10666"/>
                </a:moveTo>
                <a:cubicBezTo>
                  <a:pt x="18396" y="10689"/>
                  <a:pt x="18435" y="10700"/>
                  <a:pt x="18479" y="10716"/>
                </a:cubicBezTo>
                <a:cubicBezTo>
                  <a:pt x="18482" y="10718"/>
                  <a:pt x="18531" y="10762"/>
                  <a:pt x="18554" y="10765"/>
                </a:cubicBezTo>
                <a:cubicBezTo>
                  <a:pt x="18649" y="10778"/>
                  <a:pt x="18756" y="10765"/>
                  <a:pt x="18852" y="10765"/>
                </a:cubicBezTo>
                <a:cubicBezTo>
                  <a:pt x="18856" y="10764"/>
                  <a:pt x="18893" y="10745"/>
                  <a:pt x="18926" y="10740"/>
                </a:cubicBezTo>
                <a:cubicBezTo>
                  <a:pt x="18951" y="10740"/>
                  <a:pt x="18959" y="10740"/>
                  <a:pt x="18976" y="10740"/>
                </a:cubicBezTo>
                <a:cubicBezTo>
                  <a:pt x="18978" y="10740"/>
                  <a:pt x="19018" y="10719"/>
                  <a:pt x="19050" y="10716"/>
                </a:cubicBezTo>
                <a:cubicBezTo>
                  <a:pt x="19170" y="10704"/>
                  <a:pt x="19285" y="10730"/>
                  <a:pt x="19397" y="10740"/>
                </a:cubicBezTo>
                <a:cubicBezTo>
                  <a:pt x="19478" y="10747"/>
                  <a:pt x="19578" y="10759"/>
                  <a:pt x="19645" y="10765"/>
                </a:cubicBezTo>
                <a:cubicBezTo>
                  <a:pt x="19710" y="10771"/>
                  <a:pt x="19791" y="10785"/>
                  <a:pt x="19844" y="10790"/>
                </a:cubicBezTo>
                <a:cubicBezTo>
                  <a:pt x="19908" y="10796"/>
                  <a:pt x="19964" y="10804"/>
                  <a:pt x="20017" y="10815"/>
                </a:cubicBezTo>
                <a:cubicBezTo>
                  <a:pt x="20064" y="10825"/>
                  <a:pt x="20120" y="10834"/>
                  <a:pt x="20166" y="10840"/>
                </a:cubicBezTo>
                <a:cubicBezTo>
                  <a:pt x="20451" y="10875"/>
                  <a:pt x="20790" y="10844"/>
                  <a:pt x="21059" y="10815"/>
                </a:cubicBezTo>
                <a:cubicBezTo>
                  <a:pt x="21092" y="10815"/>
                  <a:pt x="21109" y="10815"/>
                  <a:pt x="21134" y="10815"/>
                </a:cubicBezTo>
                <a:cubicBezTo>
                  <a:pt x="21136" y="10814"/>
                  <a:pt x="21174" y="10794"/>
                  <a:pt x="21208" y="10790"/>
                </a:cubicBezTo>
                <a:cubicBezTo>
                  <a:pt x="21263" y="10784"/>
                  <a:pt x="21339" y="10768"/>
                  <a:pt x="21382" y="10765"/>
                </a:cubicBezTo>
                <a:cubicBezTo>
                  <a:pt x="21455" y="10759"/>
                  <a:pt x="21545" y="10745"/>
                  <a:pt x="21605" y="10740"/>
                </a:cubicBezTo>
                <a:cubicBezTo>
                  <a:pt x="21638" y="10737"/>
                  <a:pt x="21671" y="10742"/>
                  <a:pt x="21704" y="10740"/>
                </a:cubicBezTo>
                <a:cubicBezTo>
                  <a:pt x="21706" y="10739"/>
                  <a:pt x="21765" y="10717"/>
                  <a:pt x="21803" y="10716"/>
                </a:cubicBezTo>
                <a:cubicBezTo>
                  <a:pt x="22264" y="10702"/>
                  <a:pt x="22740" y="10710"/>
                  <a:pt x="23192" y="10740"/>
                </a:cubicBezTo>
                <a:cubicBezTo>
                  <a:pt x="23258" y="10744"/>
                  <a:pt x="23325" y="10737"/>
                  <a:pt x="23391" y="10740"/>
                </a:cubicBezTo>
              </a:path>
            </a:pathLst>
          </a:custGeom>
          <a:noFill/>
          <a:ln cap="sq" w="228600">
            <a:solidFill>
              <a:srgbClr val="0000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99200" y="4241880"/>
            <a:ext cx="741600" cy="36360"/>
          </a:xfrm>
          <a:custGeom>
            <a:avLst/>
            <a:gdLst/>
            <a:ahLst/>
            <a:rect l="l" t="t" r="r" b="b"/>
            <a:pathLst>
              <a:path w="2060" h="100">
                <a:moveTo>
                  <a:pt x="19720" y="11782"/>
                </a:moveTo>
                <a:cubicBezTo>
                  <a:pt x="19826" y="11782"/>
                  <a:pt x="19926" y="11789"/>
                  <a:pt x="20017" y="11807"/>
                </a:cubicBezTo>
                <a:cubicBezTo>
                  <a:pt x="20121" y="11828"/>
                  <a:pt x="20245" y="11813"/>
                  <a:pt x="20340" y="11832"/>
                </a:cubicBezTo>
                <a:cubicBezTo>
                  <a:pt x="20400" y="11844"/>
                  <a:pt x="20486" y="11849"/>
                  <a:pt x="20538" y="11857"/>
                </a:cubicBezTo>
                <a:cubicBezTo>
                  <a:pt x="20608" y="11868"/>
                  <a:pt x="20691" y="11857"/>
                  <a:pt x="20762" y="11857"/>
                </a:cubicBezTo>
                <a:cubicBezTo>
                  <a:pt x="20787" y="11871"/>
                  <a:pt x="20803" y="11878"/>
                  <a:pt x="20861" y="11881"/>
                </a:cubicBezTo>
                <a:cubicBezTo>
                  <a:pt x="21165" y="11896"/>
                  <a:pt x="21474" y="11881"/>
                  <a:pt x="21779" y="11881"/>
                </a:cubicBezTo>
              </a:path>
            </a:pathLst>
          </a:custGeom>
          <a:noFill/>
          <a:ln cap="sq" w="228600">
            <a:solidFill>
              <a:srgbClr val="0000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77040" y="4321080"/>
            <a:ext cx="206280" cy="19080"/>
          </a:xfrm>
          <a:custGeom>
            <a:avLst/>
            <a:gdLst/>
            <a:ahLst/>
            <a:rect l="l" t="t" r="r" b="b"/>
            <a:pathLst>
              <a:path w="571" h="51">
                <a:moveTo>
                  <a:pt x="20216" y="12055"/>
                </a:moveTo>
                <a:cubicBezTo>
                  <a:pt x="20257" y="12055"/>
                  <a:pt x="20299" y="12055"/>
                  <a:pt x="20340" y="12055"/>
                </a:cubicBezTo>
                <a:cubicBezTo>
                  <a:pt x="20353" y="12017"/>
                  <a:pt x="20369" y="12030"/>
                  <a:pt x="20414" y="12030"/>
                </a:cubicBezTo>
                <a:cubicBezTo>
                  <a:pt x="20453" y="12030"/>
                  <a:pt x="20468" y="12005"/>
                  <a:pt x="20513" y="12005"/>
                </a:cubicBezTo>
                <a:cubicBezTo>
                  <a:pt x="20604" y="12005"/>
                  <a:pt x="20695" y="12005"/>
                  <a:pt x="20786" y="12005"/>
                </a:cubicBezTo>
              </a:path>
            </a:pathLst>
          </a:custGeom>
          <a:noFill/>
          <a:ln cap="sq" w="228600">
            <a:solidFill>
              <a:srgbClr val="0000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08920" y="4313160"/>
            <a:ext cx="722160" cy="36720"/>
          </a:xfrm>
          <a:custGeom>
            <a:avLst/>
            <a:gdLst/>
            <a:ahLst/>
            <a:rect l="l" t="t" r="r" b="b"/>
            <a:pathLst>
              <a:path w="2010" h="100">
                <a:moveTo>
                  <a:pt x="19745" y="11981"/>
                </a:moveTo>
                <a:cubicBezTo>
                  <a:pt x="19781" y="11994"/>
                  <a:pt x="19802" y="12003"/>
                  <a:pt x="19844" y="12005"/>
                </a:cubicBezTo>
                <a:cubicBezTo>
                  <a:pt x="19896" y="12007"/>
                  <a:pt x="19929" y="12023"/>
                  <a:pt x="19968" y="12030"/>
                </a:cubicBezTo>
                <a:cubicBezTo>
                  <a:pt x="20120" y="12059"/>
                  <a:pt x="20297" y="12028"/>
                  <a:pt x="20439" y="12055"/>
                </a:cubicBezTo>
                <a:cubicBezTo>
                  <a:pt x="20536" y="12073"/>
                  <a:pt x="20649" y="12062"/>
                  <a:pt x="20737" y="12080"/>
                </a:cubicBezTo>
                <a:cubicBezTo>
                  <a:pt x="21050" y="12143"/>
                  <a:pt x="21434" y="12080"/>
                  <a:pt x="21754" y="12080"/>
                </a:cubicBezTo>
              </a:path>
            </a:pathLst>
          </a:custGeom>
          <a:noFill/>
          <a:ln cap="sq" w="228600">
            <a:solidFill>
              <a:srgbClr val="0000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33640" y="4660920"/>
            <a:ext cx="1108080" cy="36360"/>
          </a:xfrm>
          <a:custGeom>
            <a:avLst/>
            <a:gdLst/>
            <a:ahLst/>
            <a:rect l="l" t="t" r="r" b="b"/>
            <a:pathLst>
              <a:path w="3077" h="100">
                <a:moveTo>
                  <a:pt x="3150" y="13022"/>
                </a:moveTo>
                <a:cubicBezTo>
                  <a:pt x="3213" y="13022"/>
                  <a:pt x="3274" y="13005"/>
                  <a:pt x="3324" y="12998"/>
                </a:cubicBezTo>
                <a:cubicBezTo>
                  <a:pt x="3383" y="12990"/>
                  <a:pt x="3396" y="12957"/>
                  <a:pt x="3448" y="12948"/>
                </a:cubicBezTo>
                <a:cubicBezTo>
                  <a:pt x="3519" y="12936"/>
                  <a:pt x="3567" y="12964"/>
                  <a:pt x="3621" y="12973"/>
                </a:cubicBezTo>
                <a:cubicBezTo>
                  <a:pt x="3655" y="12979"/>
                  <a:pt x="3696" y="12994"/>
                  <a:pt x="3721" y="12998"/>
                </a:cubicBezTo>
                <a:cubicBezTo>
                  <a:pt x="3761" y="13005"/>
                  <a:pt x="3783" y="13016"/>
                  <a:pt x="3820" y="13022"/>
                </a:cubicBezTo>
                <a:cubicBezTo>
                  <a:pt x="3861" y="13029"/>
                  <a:pt x="3882" y="13041"/>
                  <a:pt x="3919" y="13047"/>
                </a:cubicBezTo>
                <a:cubicBezTo>
                  <a:pt x="4636" y="13167"/>
                  <a:pt x="5496" y="13047"/>
                  <a:pt x="6226" y="13047"/>
                </a:cubicBezTo>
                <a:cubicBezTo>
                  <a:pt x="6206" y="13021"/>
                  <a:pt x="6209" y="13048"/>
                  <a:pt x="6201" y="12998"/>
                </a:cubicBezTo>
                <a:cubicBezTo>
                  <a:pt x="6176" y="12998"/>
                  <a:pt x="6152" y="12998"/>
                  <a:pt x="6127" y="12998"/>
                </a:cubicBezTo>
                <a:cubicBezTo>
                  <a:pt x="6102" y="12948"/>
                  <a:pt x="6110" y="12981"/>
                  <a:pt x="6127" y="12948"/>
                </a:cubicBezTo>
              </a:path>
            </a:pathLst>
          </a:custGeom>
          <a:noFill/>
          <a:ln cap="sq" w="228600">
            <a:solidFill>
              <a:srgbClr val="808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19880" y="4660920"/>
            <a:ext cx="2152800" cy="36360"/>
          </a:xfrm>
          <a:custGeom>
            <a:avLst/>
            <a:gdLst/>
            <a:ahLst/>
            <a:rect l="l" t="t" r="r" b="b"/>
            <a:pathLst>
              <a:path w="5978" h="100">
                <a:moveTo>
                  <a:pt x="17835" y="12948"/>
                </a:moveTo>
                <a:cubicBezTo>
                  <a:pt x="17880" y="12951"/>
                  <a:pt x="17975" y="12972"/>
                  <a:pt x="17983" y="12973"/>
                </a:cubicBezTo>
                <a:cubicBezTo>
                  <a:pt x="18044" y="12978"/>
                  <a:pt x="18162" y="12996"/>
                  <a:pt x="18182" y="12998"/>
                </a:cubicBezTo>
                <a:cubicBezTo>
                  <a:pt x="18243" y="13004"/>
                  <a:pt x="18297" y="13016"/>
                  <a:pt x="18355" y="13022"/>
                </a:cubicBezTo>
                <a:cubicBezTo>
                  <a:pt x="18877" y="13080"/>
                  <a:pt x="19583" y="13116"/>
                  <a:pt x="20092" y="13047"/>
                </a:cubicBezTo>
                <a:cubicBezTo>
                  <a:pt x="20133" y="13041"/>
                  <a:pt x="20154" y="13025"/>
                  <a:pt x="20191" y="13022"/>
                </a:cubicBezTo>
                <a:cubicBezTo>
                  <a:pt x="20988" y="12955"/>
                  <a:pt x="21861" y="13056"/>
                  <a:pt x="22622" y="12998"/>
                </a:cubicBezTo>
                <a:cubicBezTo>
                  <a:pt x="22719" y="12991"/>
                  <a:pt x="22887" y="12978"/>
                  <a:pt x="22944" y="12973"/>
                </a:cubicBezTo>
                <a:cubicBezTo>
                  <a:pt x="22986" y="12969"/>
                  <a:pt x="23003" y="12953"/>
                  <a:pt x="23044" y="12948"/>
                </a:cubicBezTo>
                <a:cubicBezTo>
                  <a:pt x="23126" y="12938"/>
                  <a:pt x="23199" y="12958"/>
                  <a:pt x="23267" y="12973"/>
                </a:cubicBezTo>
                <a:cubicBezTo>
                  <a:pt x="23302" y="12981"/>
                  <a:pt x="23328" y="12989"/>
                  <a:pt x="23366" y="12998"/>
                </a:cubicBezTo>
                <a:cubicBezTo>
                  <a:pt x="23409" y="13009"/>
                  <a:pt x="23445" y="13017"/>
                  <a:pt x="23490" y="13022"/>
                </a:cubicBezTo>
                <a:cubicBezTo>
                  <a:pt x="23605" y="13034"/>
                  <a:pt x="23673" y="13022"/>
                  <a:pt x="23788" y="13022"/>
                </a:cubicBezTo>
              </a:path>
            </a:pathLst>
          </a:custGeom>
          <a:noFill/>
          <a:ln cap="sq" w="228600">
            <a:solidFill>
              <a:srgbClr val="808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56240" y="4616280"/>
            <a:ext cx="1822680" cy="36720"/>
          </a:xfrm>
          <a:custGeom>
            <a:avLst/>
            <a:gdLst/>
            <a:ahLst/>
            <a:rect l="l" t="t" r="r" b="b"/>
            <a:pathLst>
              <a:path w="5061" h="100">
                <a:moveTo>
                  <a:pt x="22994" y="12874"/>
                </a:moveTo>
                <a:cubicBezTo>
                  <a:pt x="22925" y="12864"/>
                  <a:pt x="22866" y="12853"/>
                  <a:pt x="22796" y="12849"/>
                </a:cubicBezTo>
                <a:cubicBezTo>
                  <a:pt x="22501" y="12830"/>
                  <a:pt x="22181" y="12849"/>
                  <a:pt x="21903" y="12874"/>
                </a:cubicBezTo>
                <a:cubicBezTo>
                  <a:pt x="21226" y="12934"/>
                  <a:pt x="20508" y="12778"/>
                  <a:pt x="19844" y="12898"/>
                </a:cubicBezTo>
                <a:cubicBezTo>
                  <a:pt x="19754" y="12914"/>
                  <a:pt x="19664" y="12921"/>
                  <a:pt x="19571" y="12923"/>
                </a:cubicBezTo>
                <a:cubicBezTo>
                  <a:pt x="19384" y="12928"/>
                  <a:pt x="19179" y="12945"/>
                  <a:pt x="19000" y="12898"/>
                </a:cubicBezTo>
                <a:cubicBezTo>
                  <a:pt x="18892" y="12870"/>
                  <a:pt x="18790" y="12874"/>
                  <a:pt x="18678" y="12874"/>
                </a:cubicBezTo>
                <a:cubicBezTo>
                  <a:pt x="18575" y="12874"/>
                  <a:pt x="18479" y="12857"/>
                  <a:pt x="18380" y="12849"/>
                </a:cubicBezTo>
                <a:cubicBezTo>
                  <a:pt x="18282" y="12841"/>
                  <a:pt x="18174" y="12831"/>
                  <a:pt x="18083" y="12824"/>
                </a:cubicBezTo>
                <a:cubicBezTo>
                  <a:pt x="18034" y="12820"/>
                  <a:pt x="17984" y="12826"/>
                  <a:pt x="17934" y="12824"/>
                </a:cubicBezTo>
              </a:path>
            </a:pathLst>
          </a:custGeom>
          <a:noFill/>
          <a:ln cap="sq" w="228600">
            <a:solidFill>
              <a:srgbClr val="808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33640" y="5010120"/>
            <a:ext cx="1152360" cy="115920"/>
          </a:xfrm>
          <a:custGeom>
            <a:avLst/>
            <a:gdLst/>
            <a:ahLst/>
            <a:rect l="l" t="t" r="r" b="b"/>
            <a:pathLst>
              <a:path w="3201" h="324">
                <a:moveTo>
                  <a:pt x="3150" y="14238"/>
                </a:moveTo>
                <a:cubicBezTo>
                  <a:pt x="3200" y="14221"/>
                  <a:pt x="3195" y="14220"/>
                  <a:pt x="3249" y="14213"/>
                </a:cubicBezTo>
                <a:cubicBezTo>
                  <a:pt x="3305" y="14206"/>
                  <a:pt x="3313" y="14199"/>
                  <a:pt x="3349" y="14188"/>
                </a:cubicBezTo>
                <a:cubicBezTo>
                  <a:pt x="3388" y="14176"/>
                  <a:pt x="3434" y="14146"/>
                  <a:pt x="3473" y="14139"/>
                </a:cubicBezTo>
                <a:cubicBezTo>
                  <a:pt x="3511" y="14133"/>
                  <a:pt x="3569" y="14118"/>
                  <a:pt x="3597" y="14114"/>
                </a:cubicBezTo>
                <a:cubicBezTo>
                  <a:pt x="3650" y="14107"/>
                  <a:pt x="3672" y="14133"/>
                  <a:pt x="3721" y="14139"/>
                </a:cubicBezTo>
                <a:cubicBezTo>
                  <a:pt x="3755" y="14143"/>
                  <a:pt x="3796" y="14160"/>
                  <a:pt x="3820" y="14163"/>
                </a:cubicBezTo>
                <a:cubicBezTo>
                  <a:pt x="3916" y="14176"/>
                  <a:pt x="4034" y="14177"/>
                  <a:pt x="4118" y="14188"/>
                </a:cubicBezTo>
                <a:cubicBezTo>
                  <a:pt x="4511" y="14238"/>
                  <a:pt x="5005" y="14211"/>
                  <a:pt x="5383" y="14163"/>
                </a:cubicBezTo>
                <a:cubicBezTo>
                  <a:pt x="5419" y="14158"/>
                  <a:pt x="5454" y="14143"/>
                  <a:pt x="5482" y="14139"/>
                </a:cubicBezTo>
                <a:cubicBezTo>
                  <a:pt x="5656" y="14111"/>
                  <a:pt x="5962" y="14110"/>
                  <a:pt x="6127" y="14163"/>
                </a:cubicBezTo>
                <a:cubicBezTo>
                  <a:pt x="6187" y="14182"/>
                  <a:pt x="6242" y="14196"/>
                  <a:pt x="6300" y="14213"/>
                </a:cubicBezTo>
                <a:cubicBezTo>
                  <a:pt x="6323" y="14236"/>
                  <a:pt x="6327" y="14244"/>
                  <a:pt x="6350" y="14238"/>
                </a:cubicBezTo>
                <a:cubicBezTo>
                  <a:pt x="6322" y="14224"/>
                  <a:pt x="6286" y="14193"/>
                  <a:pt x="6276" y="14188"/>
                </a:cubicBezTo>
                <a:cubicBezTo>
                  <a:pt x="6229" y="14163"/>
                  <a:pt x="6235" y="14197"/>
                  <a:pt x="6201" y="14139"/>
                </a:cubicBezTo>
                <a:cubicBezTo>
                  <a:pt x="6194" y="14127"/>
                  <a:pt x="6187" y="14074"/>
                  <a:pt x="6176" y="14064"/>
                </a:cubicBezTo>
                <a:cubicBezTo>
                  <a:pt x="6158" y="14047"/>
                  <a:pt x="6117" y="14027"/>
                  <a:pt x="6102" y="14015"/>
                </a:cubicBezTo>
                <a:cubicBezTo>
                  <a:pt x="6068" y="13989"/>
                  <a:pt x="6038" y="13983"/>
                  <a:pt x="6003" y="13965"/>
                </a:cubicBezTo>
                <a:cubicBezTo>
                  <a:pt x="5968" y="13948"/>
                  <a:pt x="5978" y="13947"/>
                  <a:pt x="5928" y="13940"/>
                </a:cubicBezTo>
                <a:cubicBezTo>
                  <a:pt x="5825" y="13926"/>
                  <a:pt x="5698" y="13927"/>
                  <a:pt x="5606" y="13915"/>
                </a:cubicBezTo>
                <a:cubicBezTo>
                  <a:pt x="5532" y="13906"/>
                  <a:pt x="5466" y="13933"/>
                  <a:pt x="5407" y="13940"/>
                </a:cubicBezTo>
                <a:cubicBezTo>
                  <a:pt x="5354" y="13947"/>
                  <a:pt x="5328" y="13950"/>
                  <a:pt x="5283" y="13965"/>
                </a:cubicBezTo>
                <a:cubicBezTo>
                  <a:pt x="5254" y="13975"/>
                  <a:pt x="5186" y="14014"/>
                  <a:pt x="5184" y="14015"/>
                </a:cubicBezTo>
                <a:cubicBezTo>
                  <a:pt x="5139" y="14027"/>
                  <a:pt x="5089" y="13990"/>
                  <a:pt x="5085" y="13990"/>
                </a:cubicBezTo>
                <a:cubicBezTo>
                  <a:pt x="5060" y="13990"/>
                  <a:pt x="5052" y="13990"/>
                  <a:pt x="5035" y="13990"/>
                </a:cubicBezTo>
              </a:path>
            </a:pathLst>
          </a:custGeom>
          <a:noFill/>
          <a:ln cap="sq" w="228600">
            <a:solidFill>
              <a:srgbClr val="bbe0e3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00880" y="5081760"/>
            <a:ext cx="2081160" cy="61920"/>
          </a:xfrm>
          <a:custGeom>
            <a:avLst/>
            <a:gdLst/>
            <a:ahLst/>
            <a:rect l="l" t="t" r="r" b="b"/>
            <a:pathLst>
              <a:path w="5780" h="175">
                <a:moveTo>
                  <a:pt x="18058" y="14238"/>
                </a:moveTo>
                <a:cubicBezTo>
                  <a:pt x="18099" y="14235"/>
                  <a:pt x="18116" y="14217"/>
                  <a:pt x="18157" y="14213"/>
                </a:cubicBezTo>
                <a:cubicBezTo>
                  <a:pt x="18200" y="14209"/>
                  <a:pt x="18244" y="14191"/>
                  <a:pt x="18256" y="14188"/>
                </a:cubicBezTo>
                <a:cubicBezTo>
                  <a:pt x="18289" y="14179"/>
                  <a:pt x="18323" y="14167"/>
                  <a:pt x="18355" y="14163"/>
                </a:cubicBezTo>
                <a:cubicBezTo>
                  <a:pt x="18474" y="14149"/>
                  <a:pt x="18600" y="14179"/>
                  <a:pt x="18703" y="14188"/>
                </a:cubicBezTo>
                <a:cubicBezTo>
                  <a:pt x="18783" y="14195"/>
                  <a:pt x="18885" y="14208"/>
                  <a:pt x="18951" y="14213"/>
                </a:cubicBezTo>
                <a:cubicBezTo>
                  <a:pt x="19360" y="14245"/>
                  <a:pt x="19796" y="14205"/>
                  <a:pt x="20191" y="14238"/>
                </a:cubicBezTo>
                <a:cubicBezTo>
                  <a:pt x="20263" y="14244"/>
                  <a:pt x="20329" y="14251"/>
                  <a:pt x="20389" y="14263"/>
                </a:cubicBezTo>
                <a:cubicBezTo>
                  <a:pt x="20445" y="14274"/>
                  <a:pt x="20479" y="14281"/>
                  <a:pt x="20538" y="14288"/>
                </a:cubicBezTo>
                <a:cubicBezTo>
                  <a:pt x="21233" y="14366"/>
                  <a:pt x="22035" y="14308"/>
                  <a:pt x="22721" y="14263"/>
                </a:cubicBezTo>
                <a:cubicBezTo>
                  <a:pt x="22805" y="14258"/>
                  <a:pt x="22892" y="14244"/>
                  <a:pt x="22969" y="14238"/>
                </a:cubicBezTo>
                <a:cubicBezTo>
                  <a:pt x="23011" y="14235"/>
                  <a:pt x="23113" y="14213"/>
                  <a:pt x="23118" y="14213"/>
                </a:cubicBezTo>
                <a:cubicBezTo>
                  <a:pt x="23365" y="14191"/>
                  <a:pt x="24060" y="14213"/>
                  <a:pt x="23812" y="14213"/>
                </a:cubicBezTo>
                <a:cubicBezTo>
                  <a:pt x="23704" y="14213"/>
                  <a:pt x="23639" y="14214"/>
                  <a:pt x="23540" y="14163"/>
                </a:cubicBezTo>
                <a:cubicBezTo>
                  <a:pt x="23510" y="14148"/>
                  <a:pt x="23469" y="14130"/>
                  <a:pt x="23440" y="14114"/>
                </a:cubicBezTo>
              </a:path>
            </a:pathLst>
          </a:custGeom>
          <a:noFill/>
          <a:ln cap="sq" w="228600">
            <a:solidFill>
              <a:srgbClr val="bbe0e3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53160" y="4973760"/>
            <a:ext cx="919080" cy="63360"/>
          </a:xfrm>
          <a:custGeom>
            <a:avLst/>
            <a:gdLst/>
            <a:ahLst/>
            <a:rect l="l" t="t" r="r" b="b"/>
            <a:pathLst>
              <a:path w="2556" h="175">
                <a:moveTo>
                  <a:pt x="21034" y="13990"/>
                </a:moveTo>
                <a:cubicBezTo>
                  <a:pt x="20985" y="13961"/>
                  <a:pt x="20936" y="13944"/>
                  <a:pt x="20886" y="13915"/>
                </a:cubicBezTo>
                <a:cubicBezTo>
                  <a:pt x="20834" y="13885"/>
                  <a:pt x="20748" y="13829"/>
                  <a:pt x="20687" y="13816"/>
                </a:cubicBezTo>
                <a:cubicBezTo>
                  <a:pt x="20633" y="13805"/>
                  <a:pt x="20604" y="13827"/>
                  <a:pt x="20563" y="13841"/>
                </a:cubicBezTo>
                <a:cubicBezTo>
                  <a:pt x="20523" y="13855"/>
                  <a:pt x="20483" y="13854"/>
                  <a:pt x="20439" y="13866"/>
                </a:cubicBezTo>
                <a:cubicBezTo>
                  <a:pt x="20401" y="13877"/>
                  <a:pt x="20387" y="13888"/>
                  <a:pt x="20340" y="13891"/>
                </a:cubicBezTo>
                <a:cubicBezTo>
                  <a:pt x="20047" y="13907"/>
                  <a:pt x="19731" y="13903"/>
                  <a:pt x="19447" y="13866"/>
                </a:cubicBezTo>
                <a:cubicBezTo>
                  <a:pt x="19355" y="13854"/>
                  <a:pt x="19226" y="13880"/>
                  <a:pt x="19174" y="13891"/>
                </a:cubicBezTo>
                <a:cubicBezTo>
                  <a:pt x="19080" y="13910"/>
                  <a:pt x="18970" y="13902"/>
                  <a:pt x="18876" y="13915"/>
                </a:cubicBezTo>
                <a:cubicBezTo>
                  <a:pt x="18823" y="13922"/>
                  <a:pt x="18781" y="13937"/>
                  <a:pt x="18728" y="13940"/>
                </a:cubicBezTo>
                <a:cubicBezTo>
                  <a:pt x="18644" y="13945"/>
                  <a:pt x="18575" y="13949"/>
                  <a:pt x="18504" y="13965"/>
                </a:cubicBezTo>
                <a:cubicBezTo>
                  <a:pt x="18496" y="13965"/>
                  <a:pt x="18487" y="13965"/>
                  <a:pt x="18479" y="13965"/>
                </a:cubicBezTo>
              </a:path>
            </a:pathLst>
          </a:custGeom>
          <a:noFill/>
          <a:ln cap="sq" w="228600">
            <a:solidFill>
              <a:srgbClr val="bbe0e3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24000" y="5510160"/>
            <a:ext cx="938160" cy="54000"/>
          </a:xfrm>
          <a:custGeom>
            <a:avLst/>
            <a:gdLst/>
            <a:ahLst/>
            <a:rect l="l" t="t" r="r" b="b"/>
            <a:pathLst>
              <a:path w="2606" h="150">
                <a:moveTo>
                  <a:pt x="3398" y="15404"/>
                </a:moveTo>
                <a:cubicBezTo>
                  <a:pt x="3440" y="15409"/>
                  <a:pt x="3459" y="15423"/>
                  <a:pt x="3497" y="15429"/>
                </a:cubicBezTo>
                <a:cubicBezTo>
                  <a:pt x="3571" y="15441"/>
                  <a:pt x="3650" y="15441"/>
                  <a:pt x="3721" y="15453"/>
                </a:cubicBezTo>
                <a:cubicBezTo>
                  <a:pt x="3856" y="15475"/>
                  <a:pt x="4022" y="15448"/>
                  <a:pt x="4142" y="15429"/>
                </a:cubicBezTo>
                <a:cubicBezTo>
                  <a:pt x="4182" y="15423"/>
                  <a:pt x="4236" y="15409"/>
                  <a:pt x="4266" y="15404"/>
                </a:cubicBezTo>
                <a:cubicBezTo>
                  <a:pt x="4315" y="15396"/>
                  <a:pt x="4375" y="15386"/>
                  <a:pt x="4415" y="15379"/>
                </a:cubicBezTo>
                <a:cubicBezTo>
                  <a:pt x="4456" y="15372"/>
                  <a:pt x="4507" y="15359"/>
                  <a:pt x="4539" y="15354"/>
                </a:cubicBezTo>
                <a:cubicBezTo>
                  <a:pt x="4568" y="15349"/>
                  <a:pt x="4610" y="15354"/>
                  <a:pt x="4638" y="15354"/>
                </a:cubicBezTo>
                <a:cubicBezTo>
                  <a:pt x="4651" y="15349"/>
                  <a:pt x="4692" y="15329"/>
                  <a:pt x="4738" y="15329"/>
                </a:cubicBezTo>
                <a:cubicBezTo>
                  <a:pt x="4763" y="15314"/>
                  <a:pt x="4759" y="15307"/>
                  <a:pt x="4812" y="15304"/>
                </a:cubicBezTo>
                <a:cubicBezTo>
                  <a:pt x="4893" y="15299"/>
                  <a:pt x="4969" y="15319"/>
                  <a:pt x="5035" y="15329"/>
                </a:cubicBezTo>
                <a:cubicBezTo>
                  <a:pt x="5076" y="15336"/>
                  <a:pt x="5097" y="15348"/>
                  <a:pt x="5135" y="15354"/>
                </a:cubicBezTo>
                <a:cubicBezTo>
                  <a:pt x="5353" y="15391"/>
                  <a:pt x="5589" y="15343"/>
                  <a:pt x="5804" y="15379"/>
                </a:cubicBezTo>
                <a:cubicBezTo>
                  <a:pt x="5866" y="15389"/>
                  <a:pt x="5940" y="15379"/>
                  <a:pt x="6003" y="15379"/>
                </a:cubicBezTo>
              </a:path>
            </a:pathLst>
          </a:custGeom>
          <a:noFill/>
          <a:ln cap="sq" w="228600">
            <a:solidFill>
              <a:srgbClr val="008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27880" y="5483160"/>
            <a:ext cx="1965240" cy="88920"/>
          </a:xfrm>
          <a:custGeom>
            <a:avLst/>
            <a:gdLst/>
            <a:ahLst/>
            <a:rect l="l" t="t" r="r" b="b"/>
            <a:pathLst>
              <a:path w="5458" h="249">
                <a:moveTo>
                  <a:pt x="18157" y="15354"/>
                </a:moveTo>
                <a:cubicBezTo>
                  <a:pt x="18212" y="15348"/>
                  <a:pt x="18261" y="15342"/>
                  <a:pt x="18306" y="15329"/>
                </a:cubicBezTo>
                <a:cubicBezTo>
                  <a:pt x="18345" y="15318"/>
                  <a:pt x="18325" y="15302"/>
                  <a:pt x="18380" y="15304"/>
                </a:cubicBezTo>
                <a:cubicBezTo>
                  <a:pt x="18424" y="15305"/>
                  <a:pt x="18440" y="15327"/>
                  <a:pt x="18479" y="15329"/>
                </a:cubicBezTo>
                <a:cubicBezTo>
                  <a:pt x="18578" y="15335"/>
                  <a:pt x="18693" y="15348"/>
                  <a:pt x="18777" y="15354"/>
                </a:cubicBezTo>
                <a:cubicBezTo>
                  <a:pt x="18975" y="15369"/>
                  <a:pt x="19191" y="15344"/>
                  <a:pt x="19372" y="15329"/>
                </a:cubicBezTo>
                <a:cubicBezTo>
                  <a:pt x="19437" y="15324"/>
                  <a:pt x="19519" y="15308"/>
                  <a:pt x="19571" y="15304"/>
                </a:cubicBezTo>
                <a:cubicBezTo>
                  <a:pt x="19867" y="15279"/>
                  <a:pt x="20176" y="15339"/>
                  <a:pt x="20464" y="15280"/>
                </a:cubicBezTo>
                <a:cubicBezTo>
                  <a:pt x="20505" y="15272"/>
                  <a:pt x="20547" y="15260"/>
                  <a:pt x="20588" y="15255"/>
                </a:cubicBezTo>
                <a:cubicBezTo>
                  <a:pt x="20693" y="15243"/>
                  <a:pt x="20811" y="15238"/>
                  <a:pt x="20910" y="15230"/>
                </a:cubicBezTo>
                <a:cubicBezTo>
                  <a:pt x="21614" y="15171"/>
                  <a:pt x="22611" y="15092"/>
                  <a:pt x="23292" y="15255"/>
                </a:cubicBezTo>
                <a:cubicBezTo>
                  <a:pt x="23384" y="15277"/>
                  <a:pt x="23468" y="15295"/>
                  <a:pt x="23564" y="15304"/>
                </a:cubicBezTo>
                <a:cubicBezTo>
                  <a:pt x="23572" y="15304"/>
                  <a:pt x="23581" y="15304"/>
                  <a:pt x="23589" y="15304"/>
                </a:cubicBezTo>
                <a:cubicBezTo>
                  <a:pt x="23559" y="15317"/>
                  <a:pt x="23544" y="15313"/>
                  <a:pt x="23515" y="15329"/>
                </a:cubicBezTo>
                <a:cubicBezTo>
                  <a:pt x="23487" y="15344"/>
                  <a:pt x="23481" y="15361"/>
                  <a:pt x="23440" y="15379"/>
                </a:cubicBezTo>
                <a:cubicBezTo>
                  <a:pt x="23404" y="15395"/>
                  <a:pt x="23396" y="15393"/>
                  <a:pt x="23366" y="15404"/>
                </a:cubicBezTo>
                <a:cubicBezTo>
                  <a:pt x="23326" y="15419"/>
                  <a:pt x="23323" y="15419"/>
                  <a:pt x="23292" y="15429"/>
                </a:cubicBezTo>
                <a:cubicBezTo>
                  <a:pt x="23253" y="15442"/>
                  <a:pt x="23258" y="15472"/>
                  <a:pt x="23217" y="15478"/>
                </a:cubicBezTo>
                <a:cubicBezTo>
                  <a:pt x="23099" y="15494"/>
                  <a:pt x="22971" y="15475"/>
                  <a:pt x="22870" y="15453"/>
                </a:cubicBezTo>
                <a:cubicBezTo>
                  <a:pt x="22831" y="15445"/>
                  <a:pt x="22807" y="15437"/>
                  <a:pt x="22771" y="15429"/>
                </a:cubicBezTo>
                <a:cubicBezTo>
                  <a:pt x="22701" y="15414"/>
                  <a:pt x="22636" y="15397"/>
                  <a:pt x="22572" y="15379"/>
                </a:cubicBezTo>
                <a:cubicBezTo>
                  <a:pt x="22537" y="15369"/>
                  <a:pt x="22510" y="15364"/>
                  <a:pt x="22473" y="15354"/>
                </a:cubicBezTo>
                <a:cubicBezTo>
                  <a:pt x="22436" y="15344"/>
                  <a:pt x="22409" y="15338"/>
                  <a:pt x="22374" y="15329"/>
                </a:cubicBezTo>
                <a:cubicBezTo>
                  <a:pt x="22326" y="15317"/>
                  <a:pt x="22273" y="15316"/>
                  <a:pt x="22225" y="15304"/>
                </a:cubicBezTo>
                <a:cubicBezTo>
                  <a:pt x="22167" y="15290"/>
                  <a:pt x="22112" y="15285"/>
                  <a:pt x="22051" y="15280"/>
                </a:cubicBezTo>
                <a:cubicBezTo>
                  <a:pt x="21932" y="15271"/>
                  <a:pt x="21820" y="15297"/>
                  <a:pt x="21704" y="15304"/>
                </a:cubicBezTo>
                <a:cubicBezTo>
                  <a:pt x="21621" y="15309"/>
                  <a:pt x="21558" y="15312"/>
                  <a:pt x="21481" y="15329"/>
                </a:cubicBezTo>
                <a:cubicBezTo>
                  <a:pt x="21443" y="15337"/>
                  <a:pt x="21406" y="15353"/>
                  <a:pt x="21357" y="15354"/>
                </a:cubicBezTo>
                <a:cubicBezTo>
                  <a:pt x="21316" y="15355"/>
                  <a:pt x="21237" y="15379"/>
                  <a:pt x="21233" y="15379"/>
                </a:cubicBezTo>
                <a:cubicBezTo>
                  <a:pt x="20898" y="15410"/>
                  <a:pt x="20545" y="15376"/>
                  <a:pt x="20216" y="15404"/>
                </a:cubicBezTo>
                <a:cubicBezTo>
                  <a:pt x="20111" y="15413"/>
                  <a:pt x="19985" y="15421"/>
                  <a:pt x="19893" y="15429"/>
                </a:cubicBezTo>
                <a:cubicBezTo>
                  <a:pt x="19641" y="15450"/>
                  <a:pt x="19360" y="15421"/>
                  <a:pt x="19124" y="15404"/>
                </a:cubicBezTo>
                <a:cubicBezTo>
                  <a:pt x="18797" y="15381"/>
                  <a:pt x="18459" y="15404"/>
                  <a:pt x="18132" y="15404"/>
                </a:cubicBezTo>
              </a:path>
            </a:pathLst>
          </a:custGeom>
          <a:noFill/>
          <a:ln cap="sq" w="228600">
            <a:solidFill>
              <a:srgbClr val="008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91160" y="5384880"/>
            <a:ext cx="2019600" cy="241200"/>
          </a:xfrm>
          <a:custGeom>
            <a:avLst/>
            <a:gdLst/>
            <a:ahLst/>
            <a:rect l="l" t="t" r="r" b="b"/>
            <a:pathLst>
              <a:path w="5607" h="671">
                <a:moveTo>
                  <a:pt x="18777" y="15106"/>
                </a:moveTo>
                <a:cubicBezTo>
                  <a:pt x="19177" y="15106"/>
                  <a:pt x="19583" y="15091"/>
                  <a:pt x="19968" y="15081"/>
                </a:cubicBezTo>
                <a:cubicBezTo>
                  <a:pt x="20521" y="15067"/>
                  <a:pt x="21178" y="15177"/>
                  <a:pt x="21704" y="15056"/>
                </a:cubicBezTo>
                <a:cubicBezTo>
                  <a:pt x="21752" y="15045"/>
                  <a:pt x="21775" y="15035"/>
                  <a:pt x="21803" y="15032"/>
                </a:cubicBezTo>
                <a:cubicBezTo>
                  <a:pt x="22177" y="14993"/>
                  <a:pt x="22608" y="15029"/>
                  <a:pt x="22969" y="15056"/>
                </a:cubicBezTo>
                <a:cubicBezTo>
                  <a:pt x="23011" y="15059"/>
                  <a:pt x="23112" y="15080"/>
                  <a:pt x="23118" y="15081"/>
                </a:cubicBezTo>
                <a:cubicBezTo>
                  <a:pt x="23188" y="15090"/>
                  <a:pt x="23284" y="15102"/>
                  <a:pt x="23341" y="15106"/>
                </a:cubicBezTo>
                <a:cubicBezTo>
                  <a:pt x="23428" y="15113"/>
                  <a:pt x="23569" y="15082"/>
                  <a:pt x="23614" y="15131"/>
                </a:cubicBezTo>
                <a:cubicBezTo>
                  <a:pt x="23637" y="15156"/>
                  <a:pt x="23634" y="15220"/>
                  <a:pt x="23639" y="15255"/>
                </a:cubicBezTo>
                <a:cubicBezTo>
                  <a:pt x="23651" y="15334"/>
                  <a:pt x="23641" y="15359"/>
                  <a:pt x="23589" y="15404"/>
                </a:cubicBezTo>
                <a:cubicBezTo>
                  <a:pt x="23562" y="15427"/>
                  <a:pt x="23554" y="15413"/>
                  <a:pt x="23515" y="15429"/>
                </a:cubicBezTo>
                <a:cubicBezTo>
                  <a:pt x="23489" y="15440"/>
                  <a:pt x="23456" y="15470"/>
                  <a:pt x="23440" y="15478"/>
                </a:cubicBezTo>
                <a:cubicBezTo>
                  <a:pt x="23408" y="15494"/>
                  <a:pt x="23392" y="15494"/>
                  <a:pt x="23366" y="15503"/>
                </a:cubicBezTo>
                <a:cubicBezTo>
                  <a:pt x="23313" y="15520"/>
                  <a:pt x="23322" y="15509"/>
                  <a:pt x="23267" y="15528"/>
                </a:cubicBezTo>
                <a:cubicBezTo>
                  <a:pt x="23233" y="15539"/>
                  <a:pt x="23235" y="15539"/>
                  <a:pt x="23192" y="15553"/>
                </a:cubicBezTo>
                <a:cubicBezTo>
                  <a:pt x="23158" y="15564"/>
                  <a:pt x="23163" y="15564"/>
                  <a:pt x="23118" y="15577"/>
                </a:cubicBezTo>
                <a:cubicBezTo>
                  <a:pt x="23082" y="15587"/>
                  <a:pt x="23054" y="15593"/>
                  <a:pt x="23019" y="15602"/>
                </a:cubicBezTo>
                <a:cubicBezTo>
                  <a:pt x="22981" y="15612"/>
                  <a:pt x="22964" y="15628"/>
                  <a:pt x="22920" y="15627"/>
                </a:cubicBezTo>
                <a:cubicBezTo>
                  <a:pt x="22884" y="15626"/>
                  <a:pt x="22842" y="15603"/>
                  <a:pt x="22820" y="15602"/>
                </a:cubicBezTo>
                <a:cubicBezTo>
                  <a:pt x="22737" y="15598"/>
                  <a:pt x="22641" y="15583"/>
                  <a:pt x="22572" y="15577"/>
                </a:cubicBezTo>
                <a:cubicBezTo>
                  <a:pt x="22295" y="15554"/>
                  <a:pt x="21990" y="15582"/>
                  <a:pt x="21729" y="15602"/>
                </a:cubicBezTo>
                <a:cubicBezTo>
                  <a:pt x="21658" y="15608"/>
                  <a:pt x="21599" y="15621"/>
                  <a:pt x="21530" y="15627"/>
                </a:cubicBezTo>
                <a:cubicBezTo>
                  <a:pt x="21061" y="15666"/>
                  <a:pt x="20576" y="15618"/>
                  <a:pt x="20117" y="15577"/>
                </a:cubicBezTo>
                <a:cubicBezTo>
                  <a:pt x="19648" y="15535"/>
                  <a:pt x="19127" y="15564"/>
                  <a:pt x="18678" y="15602"/>
                </a:cubicBezTo>
                <a:cubicBezTo>
                  <a:pt x="18534" y="15614"/>
                  <a:pt x="18391" y="15588"/>
                  <a:pt x="18256" y="15577"/>
                </a:cubicBezTo>
                <a:cubicBezTo>
                  <a:pt x="18200" y="15573"/>
                  <a:pt x="18179" y="15574"/>
                  <a:pt x="18132" y="15553"/>
                </a:cubicBezTo>
                <a:cubicBezTo>
                  <a:pt x="18096" y="15537"/>
                  <a:pt x="18070" y="15528"/>
                  <a:pt x="18058" y="15503"/>
                </a:cubicBezTo>
                <a:cubicBezTo>
                  <a:pt x="18058" y="15503"/>
                  <a:pt x="18033" y="15380"/>
                  <a:pt x="18033" y="15379"/>
                </a:cubicBezTo>
                <a:cubicBezTo>
                  <a:pt x="18022" y="15310"/>
                  <a:pt x="18049" y="15236"/>
                  <a:pt x="18058" y="15205"/>
                </a:cubicBezTo>
                <a:cubicBezTo>
                  <a:pt x="18071" y="15160"/>
                  <a:pt x="18063" y="15163"/>
                  <a:pt x="18083" y="15131"/>
                </a:cubicBezTo>
                <a:cubicBezTo>
                  <a:pt x="18104" y="15098"/>
                  <a:pt x="18099" y="15102"/>
                  <a:pt x="18132" y="15081"/>
                </a:cubicBezTo>
                <a:cubicBezTo>
                  <a:pt x="18167" y="15059"/>
                  <a:pt x="18167" y="15042"/>
                  <a:pt x="18207" y="15032"/>
                </a:cubicBezTo>
                <a:cubicBezTo>
                  <a:pt x="18247" y="15022"/>
                  <a:pt x="18265" y="15014"/>
                  <a:pt x="18306" y="15007"/>
                </a:cubicBezTo>
                <a:cubicBezTo>
                  <a:pt x="18352" y="15000"/>
                  <a:pt x="18420" y="14986"/>
                  <a:pt x="18455" y="14982"/>
                </a:cubicBezTo>
                <a:cubicBezTo>
                  <a:pt x="18496" y="14977"/>
                  <a:pt x="18513" y="14961"/>
                  <a:pt x="18554" y="14957"/>
                </a:cubicBezTo>
                <a:cubicBezTo>
                  <a:pt x="18623" y="14950"/>
                  <a:pt x="18725" y="14979"/>
                  <a:pt x="18752" y="14982"/>
                </a:cubicBezTo>
                <a:cubicBezTo>
                  <a:pt x="18793" y="14986"/>
                  <a:pt x="18835" y="14979"/>
                  <a:pt x="18876" y="14982"/>
                </a:cubicBezTo>
              </a:path>
            </a:pathLst>
          </a:custGeom>
          <a:noFill/>
          <a:ln cap="sq" w="228600">
            <a:solidFill>
              <a:srgbClr val="008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81080" y="5902200"/>
            <a:ext cx="1204920" cy="44640"/>
          </a:xfrm>
          <a:custGeom>
            <a:avLst/>
            <a:gdLst/>
            <a:ahLst/>
            <a:rect l="l" t="t" r="r" b="b"/>
            <a:pathLst>
              <a:path w="3350" h="125">
                <a:moveTo>
                  <a:pt x="3001" y="16520"/>
                </a:moveTo>
                <a:cubicBezTo>
                  <a:pt x="3035" y="16512"/>
                  <a:pt x="3083" y="16504"/>
                  <a:pt x="3125" y="16495"/>
                </a:cubicBezTo>
                <a:cubicBezTo>
                  <a:pt x="3177" y="16484"/>
                  <a:pt x="3201" y="16454"/>
                  <a:pt x="3249" y="16446"/>
                </a:cubicBezTo>
                <a:cubicBezTo>
                  <a:pt x="3357" y="16429"/>
                  <a:pt x="3479" y="16459"/>
                  <a:pt x="3572" y="16470"/>
                </a:cubicBezTo>
                <a:cubicBezTo>
                  <a:pt x="3622" y="16476"/>
                  <a:pt x="3682" y="16490"/>
                  <a:pt x="3721" y="16495"/>
                </a:cubicBezTo>
                <a:cubicBezTo>
                  <a:pt x="3792" y="16504"/>
                  <a:pt x="3872" y="16495"/>
                  <a:pt x="3944" y="16495"/>
                </a:cubicBezTo>
                <a:cubicBezTo>
                  <a:pt x="3951" y="16496"/>
                  <a:pt x="3999" y="16519"/>
                  <a:pt x="4043" y="16520"/>
                </a:cubicBezTo>
                <a:cubicBezTo>
                  <a:pt x="4472" y="16534"/>
                  <a:pt x="4904" y="16520"/>
                  <a:pt x="5333" y="16520"/>
                </a:cubicBezTo>
                <a:cubicBezTo>
                  <a:pt x="5346" y="16516"/>
                  <a:pt x="5363" y="16497"/>
                  <a:pt x="5407" y="16495"/>
                </a:cubicBezTo>
                <a:cubicBezTo>
                  <a:pt x="5448" y="16494"/>
                  <a:pt x="5490" y="16495"/>
                  <a:pt x="5531" y="16495"/>
                </a:cubicBezTo>
                <a:cubicBezTo>
                  <a:pt x="5542" y="16491"/>
                  <a:pt x="5588" y="16472"/>
                  <a:pt x="5631" y="16470"/>
                </a:cubicBezTo>
                <a:cubicBezTo>
                  <a:pt x="5705" y="16467"/>
                  <a:pt x="5780" y="16470"/>
                  <a:pt x="5854" y="16470"/>
                </a:cubicBezTo>
                <a:cubicBezTo>
                  <a:pt x="5867" y="16474"/>
                  <a:pt x="5884" y="16493"/>
                  <a:pt x="5928" y="16495"/>
                </a:cubicBezTo>
                <a:cubicBezTo>
                  <a:pt x="5961" y="16496"/>
                  <a:pt x="5995" y="16495"/>
                  <a:pt x="6028" y="16495"/>
                </a:cubicBezTo>
                <a:cubicBezTo>
                  <a:pt x="6039" y="16499"/>
                  <a:pt x="6084" y="16518"/>
                  <a:pt x="6127" y="16520"/>
                </a:cubicBezTo>
                <a:cubicBezTo>
                  <a:pt x="6201" y="16523"/>
                  <a:pt x="6276" y="16520"/>
                  <a:pt x="6350" y="16520"/>
                </a:cubicBezTo>
                <a:cubicBezTo>
                  <a:pt x="6350" y="16479"/>
                  <a:pt x="6350" y="16437"/>
                  <a:pt x="6350" y="16396"/>
                </a:cubicBezTo>
              </a:path>
            </a:pathLst>
          </a:custGeom>
          <a:noFill/>
          <a:ln cap="sq" w="228600">
            <a:solidFill>
              <a:srgbClr val="ff66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92880" y="5902200"/>
            <a:ext cx="2162160" cy="98640"/>
          </a:xfrm>
          <a:custGeom>
            <a:avLst/>
            <a:gdLst/>
            <a:ahLst/>
            <a:rect l="l" t="t" r="r" b="b"/>
            <a:pathLst>
              <a:path w="6004" h="274">
                <a:moveTo>
                  <a:pt x="17760" y="16545"/>
                </a:moveTo>
                <a:cubicBezTo>
                  <a:pt x="17801" y="16542"/>
                  <a:pt x="17818" y="16524"/>
                  <a:pt x="17859" y="16520"/>
                </a:cubicBezTo>
                <a:cubicBezTo>
                  <a:pt x="17972" y="16509"/>
                  <a:pt x="18108" y="16503"/>
                  <a:pt x="18207" y="16495"/>
                </a:cubicBezTo>
                <a:cubicBezTo>
                  <a:pt x="18260" y="16491"/>
                  <a:pt x="18364" y="16471"/>
                  <a:pt x="18380" y="16470"/>
                </a:cubicBezTo>
                <a:cubicBezTo>
                  <a:pt x="18476" y="16461"/>
                  <a:pt x="18573" y="16488"/>
                  <a:pt x="18653" y="16495"/>
                </a:cubicBezTo>
                <a:cubicBezTo>
                  <a:pt x="18718" y="16500"/>
                  <a:pt x="18800" y="16516"/>
                  <a:pt x="18852" y="16520"/>
                </a:cubicBezTo>
                <a:cubicBezTo>
                  <a:pt x="18938" y="16527"/>
                  <a:pt x="19026" y="16531"/>
                  <a:pt x="19100" y="16545"/>
                </a:cubicBezTo>
                <a:cubicBezTo>
                  <a:pt x="19149" y="16554"/>
                  <a:pt x="19201" y="16565"/>
                  <a:pt x="19248" y="16570"/>
                </a:cubicBezTo>
                <a:cubicBezTo>
                  <a:pt x="19539" y="16600"/>
                  <a:pt x="19867" y="16565"/>
                  <a:pt x="20141" y="16545"/>
                </a:cubicBezTo>
                <a:cubicBezTo>
                  <a:pt x="20290" y="16534"/>
                  <a:pt x="20501" y="16530"/>
                  <a:pt x="20613" y="16520"/>
                </a:cubicBezTo>
                <a:cubicBezTo>
                  <a:pt x="20702" y="16512"/>
                  <a:pt x="20784" y="16512"/>
                  <a:pt x="20861" y="16495"/>
                </a:cubicBezTo>
                <a:cubicBezTo>
                  <a:pt x="20901" y="16486"/>
                  <a:pt x="20945" y="16474"/>
                  <a:pt x="20985" y="16470"/>
                </a:cubicBezTo>
                <a:cubicBezTo>
                  <a:pt x="21049" y="16464"/>
                  <a:pt x="21124" y="16450"/>
                  <a:pt x="21183" y="16446"/>
                </a:cubicBezTo>
                <a:cubicBezTo>
                  <a:pt x="21288" y="16438"/>
                  <a:pt x="21414" y="16429"/>
                  <a:pt x="21506" y="16421"/>
                </a:cubicBezTo>
                <a:cubicBezTo>
                  <a:pt x="21579" y="16415"/>
                  <a:pt x="21670" y="16401"/>
                  <a:pt x="21729" y="16396"/>
                </a:cubicBezTo>
                <a:cubicBezTo>
                  <a:pt x="21811" y="16390"/>
                  <a:pt x="21874" y="16414"/>
                  <a:pt x="21952" y="16421"/>
                </a:cubicBezTo>
                <a:cubicBezTo>
                  <a:pt x="22070" y="16431"/>
                  <a:pt x="22156" y="16447"/>
                  <a:pt x="22275" y="16470"/>
                </a:cubicBezTo>
                <a:cubicBezTo>
                  <a:pt x="22390" y="16492"/>
                  <a:pt x="22507" y="16533"/>
                  <a:pt x="22622" y="16545"/>
                </a:cubicBezTo>
                <a:cubicBezTo>
                  <a:pt x="22993" y="16583"/>
                  <a:pt x="23389" y="16545"/>
                  <a:pt x="23763" y="16545"/>
                </a:cubicBezTo>
                <a:cubicBezTo>
                  <a:pt x="23572" y="16545"/>
                  <a:pt x="23318" y="16528"/>
                  <a:pt x="23168" y="16570"/>
                </a:cubicBezTo>
                <a:cubicBezTo>
                  <a:pt x="23136" y="16579"/>
                  <a:pt x="23126" y="16590"/>
                  <a:pt x="23093" y="16594"/>
                </a:cubicBezTo>
                <a:cubicBezTo>
                  <a:pt x="23052" y="16599"/>
                  <a:pt x="22999" y="16616"/>
                  <a:pt x="22969" y="16619"/>
                </a:cubicBezTo>
                <a:cubicBezTo>
                  <a:pt x="22902" y="16627"/>
                  <a:pt x="22853" y="16627"/>
                  <a:pt x="22796" y="16644"/>
                </a:cubicBezTo>
                <a:cubicBezTo>
                  <a:pt x="22789" y="16646"/>
                  <a:pt x="22737" y="16667"/>
                  <a:pt x="22696" y="16669"/>
                </a:cubicBezTo>
                <a:cubicBezTo>
                  <a:pt x="22409" y="16686"/>
                  <a:pt x="22131" y="16647"/>
                  <a:pt x="21853" y="16619"/>
                </a:cubicBezTo>
                <a:cubicBezTo>
                  <a:pt x="21572" y="16591"/>
                  <a:pt x="21253" y="16617"/>
                  <a:pt x="21010" y="16570"/>
                </a:cubicBezTo>
              </a:path>
            </a:pathLst>
          </a:custGeom>
          <a:noFill/>
          <a:ln cap="sq" w="228600">
            <a:solidFill>
              <a:srgbClr val="ff66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34120" y="6357960"/>
            <a:ext cx="689040" cy="36360"/>
          </a:xfrm>
          <a:custGeom>
            <a:avLst/>
            <a:gdLst/>
            <a:ahLst/>
            <a:rect l="l" t="t" r="r" b="b"/>
            <a:pathLst>
              <a:path w="1911" h="100">
                <a:moveTo>
                  <a:pt x="19819" y="17686"/>
                </a:moveTo>
                <a:cubicBezTo>
                  <a:pt x="19869" y="17726"/>
                  <a:pt x="19931" y="17750"/>
                  <a:pt x="19993" y="17760"/>
                </a:cubicBezTo>
                <a:cubicBezTo>
                  <a:pt x="20049" y="17769"/>
                  <a:pt x="20124" y="17738"/>
                  <a:pt x="20141" y="17735"/>
                </a:cubicBezTo>
                <a:cubicBezTo>
                  <a:pt x="20210" y="17723"/>
                  <a:pt x="20327" y="17718"/>
                  <a:pt x="20365" y="17711"/>
                </a:cubicBezTo>
                <a:cubicBezTo>
                  <a:pt x="20784" y="17629"/>
                  <a:pt x="21300" y="17711"/>
                  <a:pt x="21729" y="17711"/>
                </a:cubicBezTo>
                <a:cubicBezTo>
                  <a:pt x="21649" y="17711"/>
                  <a:pt x="21661" y="17695"/>
                  <a:pt x="21605" y="17661"/>
                </a:cubicBezTo>
                <a:cubicBezTo>
                  <a:pt x="21597" y="17661"/>
                  <a:pt x="21588" y="17661"/>
                  <a:pt x="21580" y="17661"/>
                </a:cubicBezTo>
              </a:path>
            </a:pathLst>
          </a:custGeom>
          <a:noFill/>
          <a:ln cap="sq" w="228600">
            <a:solidFill>
              <a:srgbClr val="ff66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43840" y="6143760"/>
            <a:ext cx="706320" cy="44280"/>
          </a:xfrm>
          <a:custGeom>
            <a:avLst/>
            <a:gdLst/>
            <a:ahLst/>
            <a:rect l="l" t="t" r="r" b="b"/>
            <a:pathLst>
              <a:path w="1960" h="125">
                <a:moveTo>
                  <a:pt x="19844" y="17066"/>
                </a:moveTo>
                <a:cubicBezTo>
                  <a:pt x="19844" y="17090"/>
                  <a:pt x="19844" y="17099"/>
                  <a:pt x="19844" y="17115"/>
                </a:cubicBezTo>
                <a:cubicBezTo>
                  <a:pt x="19864" y="17130"/>
                  <a:pt x="19873" y="17125"/>
                  <a:pt x="19893" y="17140"/>
                </a:cubicBezTo>
                <a:cubicBezTo>
                  <a:pt x="19917" y="17154"/>
                  <a:pt x="19915" y="17162"/>
                  <a:pt x="19968" y="17165"/>
                </a:cubicBezTo>
                <a:cubicBezTo>
                  <a:pt x="20012" y="17168"/>
                  <a:pt x="20027" y="17183"/>
                  <a:pt x="20067" y="17190"/>
                </a:cubicBezTo>
                <a:cubicBezTo>
                  <a:pt x="20116" y="17198"/>
                  <a:pt x="20130" y="17172"/>
                  <a:pt x="20166" y="17165"/>
                </a:cubicBezTo>
                <a:cubicBezTo>
                  <a:pt x="20222" y="17154"/>
                  <a:pt x="20255" y="17143"/>
                  <a:pt x="20315" y="17140"/>
                </a:cubicBezTo>
                <a:cubicBezTo>
                  <a:pt x="20471" y="17132"/>
                  <a:pt x="20630" y="17140"/>
                  <a:pt x="20786" y="17140"/>
                </a:cubicBezTo>
                <a:cubicBezTo>
                  <a:pt x="20806" y="17128"/>
                  <a:pt x="20822" y="17129"/>
                  <a:pt x="20861" y="17115"/>
                </a:cubicBezTo>
                <a:cubicBezTo>
                  <a:pt x="20898" y="17102"/>
                  <a:pt x="20917" y="17093"/>
                  <a:pt x="20960" y="17090"/>
                </a:cubicBezTo>
                <a:cubicBezTo>
                  <a:pt x="21096" y="17082"/>
                  <a:pt x="21229" y="17093"/>
                  <a:pt x="21357" y="17115"/>
                </a:cubicBezTo>
                <a:cubicBezTo>
                  <a:pt x="21479" y="17136"/>
                  <a:pt x="21616" y="17117"/>
                  <a:pt x="21729" y="17140"/>
                </a:cubicBezTo>
                <a:cubicBezTo>
                  <a:pt x="21753" y="17145"/>
                  <a:pt x="21779" y="17137"/>
                  <a:pt x="21803" y="17140"/>
                </a:cubicBezTo>
              </a:path>
            </a:pathLst>
          </a:custGeom>
          <a:noFill/>
          <a:ln cap="sq" w="228600">
            <a:solidFill>
              <a:srgbClr val="ff66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йменник- частина мови,що вказує на особу,предмет або кількість,але не називає їх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Хто працює,той працю шанує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867280" y="1076040"/>
            <a:ext cx="76320" cy="19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71720" y="1643040"/>
            <a:ext cx="2544480" cy="115920"/>
          </a:xfrm>
          <a:custGeom>
            <a:avLst/>
            <a:gdLst/>
            <a:ahLst/>
            <a:rect l="l" t="t" r="r" b="b"/>
            <a:pathLst>
              <a:path w="7070" h="324">
                <a:moveTo>
                  <a:pt x="2977" y="4564"/>
                </a:moveTo>
                <a:cubicBezTo>
                  <a:pt x="3014" y="4582"/>
                  <a:pt x="3062" y="4596"/>
                  <a:pt x="3101" y="4614"/>
                </a:cubicBezTo>
                <a:cubicBezTo>
                  <a:pt x="3149" y="4636"/>
                  <a:pt x="3198" y="4655"/>
                  <a:pt x="3249" y="4663"/>
                </a:cubicBezTo>
                <a:cubicBezTo>
                  <a:pt x="3407" y="4687"/>
                  <a:pt x="3586" y="4663"/>
                  <a:pt x="3746" y="4663"/>
                </a:cubicBezTo>
                <a:cubicBezTo>
                  <a:pt x="3752" y="4664"/>
                  <a:pt x="3826" y="4687"/>
                  <a:pt x="3870" y="4688"/>
                </a:cubicBezTo>
                <a:cubicBezTo>
                  <a:pt x="4267" y="4698"/>
                  <a:pt x="4707" y="4645"/>
                  <a:pt x="5085" y="4713"/>
                </a:cubicBezTo>
                <a:cubicBezTo>
                  <a:pt x="5129" y="4721"/>
                  <a:pt x="5171" y="4735"/>
                  <a:pt x="5209" y="4738"/>
                </a:cubicBezTo>
                <a:cubicBezTo>
                  <a:pt x="5341" y="4750"/>
                  <a:pt x="5477" y="4752"/>
                  <a:pt x="5606" y="4762"/>
                </a:cubicBezTo>
                <a:cubicBezTo>
                  <a:pt x="5639" y="4762"/>
                  <a:pt x="5655" y="4762"/>
                  <a:pt x="5680" y="4762"/>
                </a:cubicBezTo>
                <a:cubicBezTo>
                  <a:pt x="5682" y="4762"/>
                  <a:pt x="5719" y="4786"/>
                  <a:pt x="5755" y="4787"/>
                </a:cubicBezTo>
                <a:cubicBezTo>
                  <a:pt x="5813" y="4789"/>
                  <a:pt x="5885" y="4809"/>
                  <a:pt x="5928" y="4812"/>
                </a:cubicBezTo>
                <a:cubicBezTo>
                  <a:pt x="5969" y="4815"/>
                  <a:pt x="6011" y="4810"/>
                  <a:pt x="6052" y="4812"/>
                </a:cubicBezTo>
                <a:cubicBezTo>
                  <a:pt x="6085" y="4818"/>
                  <a:pt x="6094" y="4836"/>
                  <a:pt x="6127" y="4837"/>
                </a:cubicBezTo>
                <a:cubicBezTo>
                  <a:pt x="6234" y="4840"/>
                  <a:pt x="6325" y="4856"/>
                  <a:pt x="6424" y="4862"/>
                </a:cubicBezTo>
                <a:cubicBezTo>
                  <a:pt x="6899" y="4892"/>
                  <a:pt x="7402" y="4858"/>
                  <a:pt x="7863" y="4887"/>
                </a:cubicBezTo>
                <a:cubicBezTo>
                  <a:pt x="8134" y="4904"/>
                  <a:pt x="8429" y="4877"/>
                  <a:pt x="8682" y="4862"/>
                </a:cubicBezTo>
                <a:cubicBezTo>
                  <a:pt x="8779" y="4856"/>
                  <a:pt x="8896" y="4843"/>
                  <a:pt x="8979" y="4837"/>
                </a:cubicBezTo>
                <a:cubicBezTo>
                  <a:pt x="9266" y="4818"/>
                  <a:pt x="9601" y="4821"/>
                  <a:pt x="9872" y="4862"/>
                </a:cubicBezTo>
                <a:cubicBezTo>
                  <a:pt x="9909" y="4862"/>
                  <a:pt x="9910" y="4862"/>
                  <a:pt x="9947" y="4862"/>
                </a:cubicBezTo>
                <a:cubicBezTo>
                  <a:pt x="9980" y="4862"/>
                  <a:pt x="10013" y="4862"/>
                  <a:pt x="10046" y="486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62000" y="1704960"/>
            <a:ext cx="2573280" cy="100080"/>
          </a:xfrm>
          <a:custGeom>
            <a:avLst/>
            <a:gdLst/>
            <a:ahLst/>
            <a:rect l="l" t="t" r="r" b="b"/>
            <a:pathLst>
              <a:path w="7145" h="274">
                <a:moveTo>
                  <a:pt x="3051" y="4738"/>
                </a:moveTo>
                <a:cubicBezTo>
                  <a:pt x="3026" y="4738"/>
                  <a:pt x="3002" y="4738"/>
                  <a:pt x="2977" y="4738"/>
                </a:cubicBezTo>
                <a:cubicBezTo>
                  <a:pt x="2970" y="4764"/>
                  <a:pt x="2967" y="4767"/>
                  <a:pt x="2952" y="4787"/>
                </a:cubicBezTo>
                <a:cubicBezTo>
                  <a:pt x="2997" y="4794"/>
                  <a:pt x="3037" y="4809"/>
                  <a:pt x="3076" y="4812"/>
                </a:cubicBezTo>
                <a:cubicBezTo>
                  <a:pt x="3182" y="4820"/>
                  <a:pt x="3292" y="4812"/>
                  <a:pt x="3398" y="4812"/>
                </a:cubicBezTo>
                <a:cubicBezTo>
                  <a:pt x="3431" y="4808"/>
                  <a:pt x="3440" y="4788"/>
                  <a:pt x="3473" y="4787"/>
                </a:cubicBezTo>
                <a:cubicBezTo>
                  <a:pt x="3527" y="4785"/>
                  <a:pt x="3582" y="4810"/>
                  <a:pt x="3621" y="4812"/>
                </a:cubicBezTo>
                <a:cubicBezTo>
                  <a:pt x="3645" y="4813"/>
                  <a:pt x="3672" y="4808"/>
                  <a:pt x="3696" y="4812"/>
                </a:cubicBezTo>
                <a:cubicBezTo>
                  <a:pt x="3728" y="4818"/>
                  <a:pt x="3737" y="4836"/>
                  <a:pt x="3770" y="4837"/>
                </a:cubicBezTo>
                <a:cubicBezTo>
                  <a:pt x="3977" y="4844"/>
                  <a:pt x="4199" y="4847"/>
                  <a:pt x="4390" y="4862"/>
                </a:cubicBezTo>
                <a:cubicBezTo>
                  <a:pt x="4415" y="4864"/>
                  <a:pt x="4441" y="4858"/>
                  <a:pt x="4465" y="4862"/>
                </a:cubicBezTo>
                <a:cubicBezTo>
                  <a:pt x="4467" y="4862"/>
                  <a:pt x="4503" y="4886"/>
                  <a:pt x="4539" y="4887"/>
                </a:cubicBezTo>
                <a:cubicBezTo>
                  <a:pt x="4597" y="4889"/>
                  <a:pt x="4641" y="4902"/>
                  <a:pt x="4688" y="4911"/>
                </a:cubicBezTo>
                <a:cubicBezTo>
                  <a:pt x="4738" y="4921"/>
                  <a:pt x="4788" y="4928"/>
                  <a:pt x="4837" y="4936"/>
                </a:cubicBezTo>
                <a:cubicBezTo>
                  <a:pt x="4927" y="4951"/>
                  <a:pt x="5018" y="4979"/>
                  <a:pt x="5110" y="4986"/>
                </a:cubicBezTo>
                <a:cubicBezTo>
                  <a:pt x="5222" y="4995"/>
                  <a:pt x="5335" y="4977"/>
                  <a:pt x="5432" y="4961"/>
                </a:cubicBezTo>
                <a:cubicBezTo>
                  <a:pt x="5473" y="4954"/>
                  <a:pt x="5493" y="4945"/>
                  <a:pt x="5531" y="4936"/>
                </a:cubicBezTo>
                <a:cubicBezTo>
                  <a:pt x="5569" y="4927"/>
                  <a:pt x="5621" y="4915"/>
                  <a:pt x="5655" y="4911"/>
                </a:cubicBezTo>
                <a:cubicBezTo>
                  <a:pt x="6030" y="4869"/>
                  <a:pt x="6461" y="4912"/>
                  <a:pt x="6821" y="4936"/>
                </a:cubicBezTo>
                <a:cubicBezTo>
                  <a:pt x="6958" y="4945"/>
                  <a:pt x="7121" y="4954"/>
                  <a:pt x="7243" y="4961"/>
                </a:cubicBezTo>
                <a:cubicBezTo>
                  <a:pt x="7464" y="4974"/>
                  <a:pt x="7691" y="4961"/>
                  <a:pt x="7913" y="4961"/>
                </a:cubicBezTo>
                <a:cubicBezTo>
                  <a:pt x="7918" y="4962"/>
                  <a:pt x="7993" y="4985"/>
                  <a:pt x="8037" y="4986"/>
                </a:cubicBezTo>
                <a:cubicBezTo>
                  <a:pt x="8367" y="4994"/>
                  <a:pt x="8715" y="4992"/>
                  <a:pt x="9029" y="5011"/>
                </a:cubicBezTo>
                <a:cubicBezTo>
                  <a:pt x="9373" y="5032"/>
                  <a:pt x="9726" y="5011"/>
                  <a:pt x="10071" y="5011"/>
                </a:cubicBezTo>
                <a:cubicBezTo>
                  <a:pt x="10071" y="4986"/>
                  <a:pt x="10071" y="4978"/>
                  <a:pt x="10096" y="498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71720" y="1527120"/>
            <a:ext cx="2571480" cy="54000"/>
          </a:xfrm>
          <a:custGeom>
            <a:avLst/>
            <a:gdLst/>
            <a:ahLst/>
            <a:rect l="l" t="t" r="r" b="b"/>
            <a:pathLst>
              <a:path w="7144" h="149">
                <a:moveTo>
                  <a:pt x="2977" y="4291"/>
                </a:moveTo>
                <a:cubicBezTo>
                  <a:pt x="3001" y="4291"/>
                  <a:pt x="3010" y="4291"/>
                  <a:pt x="3026" y="4291"/>
                </a:cubicBezTo>
                <a:cubicBezTo>
                  <a:pt x="3066" y="4281"/>
                  <a:pt x="3085" y="4276"/>
                  <a:pt x="3125" y="4266"/>
                </a:cubicBezTo>
                <a:cubicBezTo>
                  <a:pt x="3158" y="4260"/>
                  <a:pt x="3167" y="4243"/>
                  <a:pt x="3200" y="4242"/>
                </a:cubicBezTo>
                <a:cubicBezTo>
                  <a:pt x="3322" y="4238"/>
                  <a:pt x="3432" y="4246"/>
                  <a:pt x="3547" y="4266"/>
                </a:cubicBezTo>
                <a:cubicBezTo>
                  <a:pt x="3597" y="4275"/>
                  <a:pt x="3627" y="4283"/>
                  <a:pt x="3671" y="4291"/>
                </a:cubicBezTo>
                <a:cubicBezTo>
                  <a:pt x="3719" y="4300"/>
                  <a:pt x="3760" y="4313"/>
                  <a:pt x="3820" y="4316"/>
                </a:cubicBezTo>
                <a:cubicBezTo>
                  <a:pt x="4027" y="4325"/>
                  <a:pt x="4249" y="4304"/>
                  <a:pt x="4440" y="4291"/>
                </a:cubicBezTo>
                <a:cubicBezTo>
                  <a:pt x="4507" y="4287"/>
                  <a:pt x="4585" y="4271"/>
                  <a:pt x="4638" y="4266"/>
                </a:cubicBezTo>
                <a:cubicBezTo>
                  <a:pt x="4741" y="4256"/>
                  <a:pt x="4840" y="4272"/>
                  <a:pt x="4936" y="4291"/>
                </a:cubicBezTo>
                <a:cubicBezTo>
                  <a:pt x="4978" y="4300"/>
                  <a:pt x="5023" y="4312"/>
                  <a:pt x="5060" y="4316"/>
                </a:cubicBezTo>
                <a:cubicBezTo>
                  <a:pt x="5221" y="4331"/>
                  <a:pt x="5380" y="4317"/>
                  <a:pt x="5531" y="4341"/>
                </a:cubicBezTo>
                <a:cubicBezTo>
                  <a:pt x="5624" y="4356"/>
                  <a:pt x="5733" y="4384"/>
                  <a:pt x="5829" y="4390"/>
                </a:cubicBezTo>
                <a:cubicBezTo>
                  <a:pt x="6085" y="4407"/>
                  <a:pt x="6350" y="4382"/>
                  <a:pt x="6598" y="4366"/>
                </a:cubicBezTo>
                <a:cubicBezTo>
                  <a:pt x="6750" y="4356"/>
                  <a:pt x="6959" y="4336"/>
                  <a:pt x="7094" y="4341"/>
                </a:cubicBezTo>
                <a:cubicBezTo>
                  <a:pt x="7156" y="4344"/>
                  <a:pt x="7204" y="4363"/>
                  <a:pt x="7268" y="4366"/>
                </a:cubicBezTo>
                <a:cubicBezTo>
                  <a:pt x="7597" y="4381"/>
                  <a:pt x="7946" y="4370"/>
                  <a:pt x="8260" y="4390"/>
                </a:cubicBezTo>
                <a:cubicBezTo>
                  <a:pt x="8396" y="4399"/>
                  <a:pt x="8535" y="4374"/>
                  <a:pt x="8657" y="4366"/>
                </a:cubicBezTo>
                <a:cubicBezTo>
                  <a:pt x="8714" y="4362"/>
                  <a:pt x="8773" y="4369"/>
                  <a:pt x="8830" y="4366"/>
                </a:cubicBezTo>
                <a:cubicBezTo>
                  <a:pt x="8832" y="4365"/>
                  <a:pt x="8897" y="4348"/>
                  <a:pt x="8930" y="4341"/>
                </a:cubicBezTo>
                <a:cubicBezTo>
                  <a:pt x="8970" y="4332"/>
                  <a:pt x="9019" y="4319"/>
                  <a:pt x="9054" y="4316"/>
                </a:cubicBezTo>
                <a:cubicBezTo>
                  <a:pt x="9325" y="4297"/>
                  <a:pt x="9610" y="4324"/>
                  <a:pt x="9872" y="4341"/>
                </a:cubicBezTo>
                <a:cubicBezTo>
                  <a:pt x="9954" y="4346"/>
                  <a:pt x="10038" y="4341"/>
                  <a:pt x="10120" y="434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йменники змінюються за відмінками,а деякі з них-за родами і числами. У реченні займенники можуть бути різними членами. Наприкла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и думаєм про вас. Над моїм вікном ластівки звили собі гніз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43800" y="3657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4191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4191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4038480"/>
            <a:ext cx="957240" cy="138240"/>
          </a:xfrm>
          <a:custGeom>
            <a:avLst/>
            <a:gdLst/>
            <a:ahLst/>
            <a:rect l="l" t="t" r="r" b="b"/>
            <a:pathLst>
              <a:path w="603" h="87">
                <a:moveTo>
                  <a:pt x="0" y="56"/>
                </a:moveTo>
                <a:cubicBezTo>
                  <a:pt x="39" y="42"/>
                  <a:pt x="72" y="22"/>
                  <a:pt x="111" y="10"/>
                </a:cubicBezTo>
                <a:cubicBezTo>
                  <a:pt x="130" y="16"/>
                  <a:pt x="148" y="22"/>
                  <a:pt x="167" y="28"/>
                </a:cubicBezTo>
                <a:cubicBezTo>
                  <a:pt x="203" y="40"/>
                  <a:pt x="190" y="56"/>
                  <a:pt x="223" y="75"/>
                </a:cubicBezTo>
                <a:cubicBezTo>
                  <a:pt x="234" y="81"/>
                  <a:pt x="248" y="81"/>
                  <a:pt x="260" y="84"/>
                </a:cubicBezTo>
                <a:cubicBezTo>
                  <a:pt x="294" y="80"/>
                  <a:pt x="335" y="87"/>
                  <a:pt x="362" y="65"/>
                </a:cubicBezTo>
                <a:cubicBezTo>
                  <a:pt x="371" y="58"/>
                  <a:pt x="371" y="44"/>
                  <a:pt x="380" y="37"/>
                </a:cubicBezTo>
                <a:cubicBezTo>
                  <a:pt x="393" y="27"/>
                  <a:pt x="447" y="6"/>
                  <a:pt x="464" y="0"/>
                </a:cubicBezTo>
                <a:cubicBezTo>
                  <a:pt x="483" y="6"/>
                  <a:pt x="506" y="5"/>
                  <a:pt x="520" y="19"/>
                </a:cubicBezTo>
                <a:cubicBezTo>
                  <a:pt x="555" y="54"/>
                  <a:pt x="535" y="43"/>
                  <a:pt x="576" y="56"/>
                </a:cubicBezTo>
                <a:cubicBezTo>
                  <a:pt x="585" y="62"/>
                  <a:pt x="603" y="75"/>
                  <a:pt x="603" y="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4648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67160" y="1990800"/>
            <a:ext cx="2214720" cy="63360"/>
          </a:xfrm>
          <a:custGeom>
            <a:avLst/>
            <a:gdLst/>
            <a:ahLst/>
            <a:rect l="l" t="t" r="r" b="b"/>
            <a:pathLst>
              <a:path w="6153" h="175">
                <a:moveTo>
                  <a:pt x="12129" y="5631"/>
                </a:moveTo>
                <a:cubicBezTo>
                  <a:pt x="12154" y="5631"/>
                  <a:pt x="12162" y="5631"/>
                  <a:pt x="12179" y="5631"/>
                </a:cubicBezTo>
                <a:cubicBezTo>
                  <a:pt x="12211" y="5620"/>
                  <a:pt x="12222" y="5617"/>
                  <a:pt x="12254" y="5606"/>
                </a:cubicBezTo>
                <a:cubicBezTo>
                  <a:pt x="12257" y="5605"/>
                  <a:pt x="12297" y="5588"/>
                  <a:pt x="12328" y="5581"/>
                </a:cubicBezTo>
                <a:cubicBezTo>
                  <a:pt x="12336" y="5581"/>
                  <a:pt x="12345" y="5581"/>
                  <a:pt x="12353" y="5581"/>
                </a:cubicBezTo>
                <a:cubicBezTo>
                  <a:pt x="12355" y="5581"/>
                  <a:pt x="12394" y="5559"/>
                  <a:pt x="12427" y="5556"/>
                </a:cubicBezTo>
                <a:cubicBezTo>
                  <a:pt x="12467" y="5552"/>
                  <a:pt x="12510" y="5556"/>
                  <a:pt x="12551" y="5556"/>
                </a:cubicBezTo>
                <a:cubicBezTo>
                  <a:pt x="12552" y="5556"/>
                  <a:pt x="12600" y="5574"/>
                  <a:pt x="12626" y="5581"/>
                </a:cubicBezTo>
                <a:cubicBezTo>
                  <a:pt x="12669" y="5593"/>
                  <a:pt x="12705" y="5602"/>
                  <a:pt x="12750" y="5606"/>
                </a:cubicBezTo>
                <a:cubicBezTo>
                  <a:pt x="13117" y="5637"/>
                  <a:pt x="13512" y="5601"/>
                  <a:pt x="13866" y="5631"/>
                </a:cubicBezTo>
                <a:cubicBezTo>
                  <a:pt x="13930" y="5636"/>
                  <a:pt x="14012" y="5651"/>
                  <a:pt x="14064" y="5655"/>
                </a:cubicBezTo>
                <a:cubicBezTo>
                  <a:pt x="14175" y="5663"/>
                  <a:pt x="14289" y="5662"/>
                  <a:pt x="14387" y="5680"/>
                </a:cubicBezTo>
                <a:cubicBezTo>
                  <a:pt x="14435" y="5689"/>
                  <a:pt x="14454" y="5699"/>
                  <a:pt x="14511" y="5705"/>
                </a:cubicBezTo>
                <a:cubicBezTo>
                  <a:pt x="14729" y="5726"/>
                  <a:pt x="14961" y="5705"/>
                  <a:pt x="15180" y="5705"/>
                </a:cubicBezTo>
                <a:cubicBezTo>
                  <a:pt x="15181" y="5705"/>
                  <a:pt x="15222" y="5683"/>
                  <a:pt x="15255" y="5680"/>
                </a:cubicBezTo>
                <a:cubicBezTo>
                  <a:pt x="15295" y="5676"/>
                  <a:pt x="15339" y="5680"/>
                  <a:pt x="15379" y="5680"/>
                </a:cubicBezTo>
                <a:cubicBezTo>
                  <a:pt x="15381" y="5680"/>
                  <a:pt x="15420" y="5658"/>
                  <a:pt x="15453" y="5655"/>
                </a:cubicBezTo>
                <a:cubicBezTo>
                  <a:pt x="15486" y="5652"/>
                  <a:pt x="15520" y="5657"/>
                  <a:pt x="15553" y="5655"/>
                </a:cubicBezTo>
                <a:cubicBezTo>
                  <a:pt x="15555" y="5655"/>
                  <a:pt x="15595" y="5634"/>
                  <a:pt x="15627" y="5631"/>
                </a:cubicBezTo>
                <a:cubicBezTo>
                  <a:pt x="15716" y="5622"/>
                  <a:pt x="15811" y="5631"/>
                  <a:pt x="15900" y="5631"/>
                </a:cubicBezTo>
                <a:cubicBezTo>
                  <a:pt x="15902" y="5631"/>
                  <a:pt x="15941" y="5609"/>
                  <a:pt x="15974" y="5606"/>
                </a:cubicBezTo>
                <a:cubicBezTo>
                  <a:pt x="16029" y="5600"/>
                  <a:pt x="16106" y="5585"/>
                  <a:pt x="16148" y="5581"/>
                </a:cubicBezTo>
                <a:cubicBezTo>
                  <a:pt x="16242" y="5573"/>
                  <a:pt x="16331" y="5564"/>
                  <a:pt x="16421" y="5556"/>
                </a:cubicBezTo>
                <a:cubicBezTo>
                  <a:pt x="16512" y="5548"/>
                  <a:pt x="16609" y="5538"/>
                  <a:pt x="16694" y="5531"/>
                </a:cubicBezTo>
                <a:cubicBezTo>
                  <a:pt x="16838" y="5519"/>
                  <a:pt x="16974" y="5549"/>
                  <a:pt x="17115" y="5556"/>
                </a:cubicBezTo>
                <a:cubicBezTo>
                  <a:pt x="17123" y="5556"/>
                  <a:pt x="17132" y="5556"/>
                  <a:pt x="17140" y="5556"/>
                </a:cubicBezTo>
                <a:cubicBezTo>
                  <a:pt x="17141" y="5556"/>
                  <a:pt x="17188" y="5574"/>
                  <a:pt x="17214" y="5581"/>
                </a:cubicBezTo>
                <a:cubicBezTo>
                  <a:pt x="17244" y="5589"/>
                  <a:pt x="17279" y="5597"/>
                  <a:pt x="17314" y="5606"/>
                </a:cubicBezTo>
                <a:cubicBezTo>
                  <a:pt x="17349" y="5615"/>
                  <a:pt x="17380" y="5627"/>
                  <a:pt x="17413" y="5631"/>
                </a:cubicBezTo>
                <a:cubicBezTo>
                  <a:pt x="17694" y="5663"/>
                  <a:pt x="17997" y="5631"/>
                  <a:pt x="18281" y="5631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67200" y="1884240"/>
            <a:ext cx="54000" cy="1800"/>
          </a:xfrm>
          <a:custGeom>
            <a:avLst/>
            <a:gdLst/>
            <a:ahLst/>
            <a:rect l="l" t="t" r="r" b="b"/>
            <a:pathLst>
              <a:path w="149" h="1">
                <a:moveTo>
                  <a:pt x="13519" y="5234"/>
                </a:moveTo>
                <a:cubicBezTo>
                  <a:pt x="13568" y="5234"/>
                  <a:pt x="13618" y="5234"/>
                  <a:pt x="13667" y="5234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52360" y="2500200"/>
            <a:ext cx="2054520" cy="81000"/>
          </a:xfrm>
          <a:custGeom>
            <a:avLst/>
            <a:gdLst/>
            <a:ahLst/>
            <a:rect l="l" t="t" r="r" b="b"/>
            <a:pathLst>
              <a:path w="5706" h="225">
                <a:moveTo>
                  <a:pt x="3200" y="7045"/>
                </a:moveTo>
                <a:cubicBezTo>
                  <a:pt x="3208" y="7045"/>
                  <a:pt x="3217" y="7045"/>
                  <a:pt x="3225" y="7045"/>
                </a:cubicBezTo>
                <a:cubicBezTo>
                  <a:pt x="3248" y="7010"/>
                  <a:pt x="3224" y="7029"/>
                  <a:pt x="3274" y="7020"/>
                </a:cubicBezTo>
                <a:cubicBezTo>
                  <a:pt x="3277" y="7019"/>
                  <a:pt x="3316" y="6999"/>
                  <a:pt x="3349" y="6995"/>
                </a:cubicBezTo>
                <a:cubicBezTo>
                  <a:pt x="3373" y="6992"/>
                  <a:pt x="3399" y="6997"/>
                  <a:pt x="3423" y="6995"/>
                </a:cubicBezTo>
                <a:cubicBezTo>
                  <a:pt x="3426" y="6994"/>
                  <a:pt x="3464" y="6974"/>
                  <a:pt x="3497" y="6970"/>
                </a:cubicBezTo>
                <a:cubicBezTo>
                  <a:pt x="3522" y="6967"/>
                  <a:pt x="3547" y="6972"/>
                  <a:pt x="3572" y="6970"/>
                </a:cubicBezTo>
                <a:cubicBezTo>
                  <a:pt x="3573" y="6970"/>
                  <a:pt x="3620" y="6988"/>
                  <a:pt x="3646" y="6995"/>
                </a:cubicBezTo>
                <a:cubicBezTo>
                  <a:pt x="3678" y="7004"/>
                  <a:pt x="3719" y="7013"/>
                  <a:pt x="3746" y="7020"/>
                </a:cubicBezTo>
                <a:cubicBezTo>
                  <a:pt x="3781" y="7029"/>
                  <a:pt x="3812" y="7041"/>
                  <a:pt x="3845" y="7045"/>
                </a:cubicBezTo>
                <a:cubicBezTo>
                  <a:pt x="3886" y="7050"/>
                  <a:pt x="3938" y="7066"/>
                  <a:pt x="3969" y="7069"/>
                </a:cubicBezTo>
                <a:cubicBezTo>
                  <a:pt x="4120" y="7085"/>
                  <a:pt x="4424" y="7115"/>
                  <a:pt x="4564" y="7045"/>
                </a:cubicBezTo>
                <a:cubicBezTo>
                  <a:pt x="4564" y="7037"/>
                  <a:pt x="4564" y="7028"/>
                  <a:pt x="4564" y="7020"/>
                </a:cubicBezTo>
                <a:cubicBezTo>
                  <a:pt x="4614" y="7009"/>
                  <a:pt x="4663" y="7007"/>
                  <a:pt x="4713" y="6995"/>
                </a:cubicBezTo>
                <a:cubicBezTo>
                  <a:pt x="4751" y="6986"/>
                  <a:pt x="4776" y="6979"/>
                  <a:pt x="4812" y="6970"/>
                </a:cubicBezTo>
                <a:cubicBezTo>
                  <a:pt x="4814" y="6970"/>
                  <a:pt x="4853" y="6948"/>
                  <a:pt x="4887" y="6945"/>
                </a:cubicBezTo>
                <a:cubicBezTo>
                  <a:pt x="4942" y="6939"/>
                  <a:pt x="4968" y="6960"/>
                  <a:pt x="5011" y="6970"/>
                </a:cubicBezTo>
                <a:cubicBezTo>
                  <a:pt x="5052" y="6979"/>
                  <a:pt x="5093" y="6986"/>
                  <a:pt x="5135" y="6995"/>
                </a:cubicBezTo>
                <a:cubicBezTo>
                  <a:pt x="5203" y="7010"/>
                  <a:pt x="5277" y="7058"/>
                  <a:pt x="5333" y="7069"/>
                </a:cubicBezTo>
                <a:cubicBezTo>
                  <a:pt x="5383" y="7069"/>
                  <a:pt x="5399" y="7069"/>
                  <a:pt x="5432" y="7069"/>
                </a:cubicBezTo>
                <a:cubicBezTo>
                  <a:pt x="5456" y="7081"/>
                  <a:pt x="5503" y="7106"/>
                  <a:pt x="5556" y="7119"/>
                </a:cubicBezTo>
                <a:cubicBezTo>
                  <a:pt x="5604" y="7130"/>
                  <a:pt x="5664" y="7162"/>
                  <a:pt x="5705" y="7169"/>
                </a:cubicBezTo>
                <a:cubicBezTo>
                  <a:pt x="5805" y="7187"/>
                  <a:pt x="5919" y="7151"/>
                  <a:pt x="6003" y="7144"/>
                </a:cubicBezTo>
                <a:cubicBezTo>
                  <a:pt x="6092" y="7137"/>
                  <a:pt x="6167" y="7136"/>
                  <a:pt x="6251" y="7119"/>
                </a:cubicBezTo>
                <a:cubicBezTo>
                  <a:pt x="6302" y="7109"/>
                  <a:pt x="6350" y="7105"/>
                  <a:pt x="6400" y="7094"/>
                </a:cubicBezTo>
                <a:cubicBezTo>
                  <a:pt x="6454" y="7082"/>
                  <a:pt x="6492" y="7079"/>
                  <a:pt x="6548" y="7069"/>
                </a:cubicBezTo>
                <a:cubicBezTo>
                  <a:pt x="6556" y="7069"/>
                  <a:pt x="6565" y="7069"/>
                  <a:pt x="6573" y="7069"/>
                </a:cubicBezTo>
                <a:cubicBezTo>
                  <a:pt x="6574" y="7069"/>
                  <a:pt x="6616" y="7048"/>
                  <a:pt x="6648" y="7045"/>
                </a:cubicBezTo>
                <a:cubicBezTo>
                  <a:pt x="6696" y="7040"/>
                  <a:pt x="6761" y="7023"/>
                  <a:pt x="6796" y="7020"/>
                </a:cubicBezTo>
                <a:cubicBezTo>
                  <a:pt x="7016" y="7002"/>
                  <a:pt x="7260" y="7012"/>
                  <a:pt x="7466" y="6995"/>
                </a:cubicBezTo>
                <a:cubicBezTo>
                  <a:pt x="7555" y="6988"/>
                  <a:pt x="7663" y="6976"/>
                  <a:pt x="7739" y="6970"/>
                </a:cubicBezTo>
                <a:cubicBezTo>
                  <a:pt x="7975" y="6950"/>
                  <a:pt x="8221" y="6970"/>
                  <a:pt x="8458" y="6970"/>
                </a:cubicBezTo>
                <a:cubicBezTo>
                  <a:pt x="8459" y="6970"/>
                  <a:pt x="8500" y="6992"/>
                  <a:pt x="8533" y="6995"/>
                </a:cubicBezTo>
                <a:cubicBezTo>
                  <a:pt x="8655" y="7006"/>
                  <a:pt x="8782" y="6995"/>
                  <a:pt x="8905" y="6995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57200" y="2347920"/>
            <a:ext cx="947880" cy="63360"/>
          </a:xfrm>
          <a:custGeom>
            <a:avLst/>
            <a:gdLst/>
            <a:ahLst/>
            <a:rect l="l" t="t" r="r" b="b"/>
            <a:pathLst>
              <a:path w="2631" h="174">
                <a:moveTo>
                  <a:pt x="3770" y="6598"/>
                </a:moveTo>
                <a:cubicBezTo>
                  <a:pt x="3892" y="6598"/>
                  <a:pt x="4010" y="6589"/>
                  <a:pt x="4118" y="6573"/>
                </a:cubicBezTo>
                <a:cubicBezTo>
                  <a:pt x="4149" y="6568"/>
                  <a:pt x="4185" y="6573"/>
                  <a:pt x="4217" y="6573"/>
                </a:cubicBezTo>
                <a:cubicBezTo>
                  <a:pt x="4238" y="6560"/>
                  <a:pt x="4251" y="6562"/>
                  <a:pt x="4291" y="6548"/>
                </a:cubicBezTo>
                <a:cubicBezTo>
                  <a:pt x="4339" y="6532"/>
                  <a:pt x="4358" y="6527"/>
                  <a:pt x="4415" y="6524"/>
                </a:cubicBezTo>
                <a:cubicBezTo>
                  <a:pt x="4512" y="6519"/>
                  <a:pt x="4606" y="6539"/>
                  <a:pt x="4688" y="6548"/>
                </a:cubicBezTo>
                <a:cubicBezTo>
                  <a:pt x="4766" y="6556"/>
                  <a:pt x="4836" y="6560"/>
                  <a:pt x="4911" y="6573"/>
                </a:cubicBezTo>
                <a:cubicBezTo>
                  <a:pt x="4961" y="6581"/>
                  <a:pt x="5011" y="6585"/>
                  <a:pt x="5060" y="6598"/>
                </a:cubicBezTo>
                <a:cubicBezTo>
                  <a:pt x="5118" y="6613"/>
                  <a:pt x="5150" y="6643"/>
                  <a:pt x="5209" y="6648"/>
                </a:cubicBezTo>
                <a:cubicBezTo>
                  <a:pt x="5413" y="6665"/>
                  <a:pt x="5625" y="6648"/>
                  <a:pt x="5829" y="6648"/>
                </a:cubicBezTo>
                <a:cubicBezTo>
                  <a:pt x="5854" y="6659"/>
                  <a:pt x="5898" y="6694"/>
                  <a:pt x="5953" y="6697"/>
                </a:cubicBezTo>
                <a:cubicBezTo>
                  <a:pt x="6081" y="6704"/>
                  <a:pt x="6212" y="6691"/>
                  <a:pt x="6325" y="6672"/>
                </a:cubicBezTo>
                <a:cubicBezTo>
                  <a:pt x="6349" y="6668"/>
                  <a:pt x="6376" y="6675"/>
                  <a:pt x="6400" y="6672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340000"/>
            <a:ext cx="2054160" cy="54000"/>
          </a:xfrm>
          <a:custGeom>
            <a:avLst/>
            <a:gdLst/>
            <a:ahLst/>
            <a:rect l="l" t="t" r="r" b="b"/>
            <a:pathLst>
              <a:path w="5706" h="150">
                <a:moveTo>
                  <a:pt x="3175" y="6524"/>
                </a:moveTo>
                <a:cubicBezTo>
                  <a:pt x="3234" y="6520"/>
                  <a:pt x="3303" y="6503"/>
                  <a:pt x="3349" y="6499"/>
                </a:cubicBezTo>
                <a:cubicBezTo>
                  <a:pt x="3404" y="6494"/>
                  <a:pt x="3431" y="6516"/>
                  <a:pt x="3473" y="6524"/>
                </a:cubicBezTo>
                <a:cubicBezTo>
                  <a:pt x="3507" y="6530"/>
                  <a:pt x="3536" y="6539"/>
                  <a:pt x="3572" y="6548"/>
                </a:cubicBezTo>
                <a:cubicBezTo>
                  <a:pt x="3607" y="6557"/>
                  <a:pt x="3628" y="6568"/>
                  <a:pt x="3671" y="6573"/>
                </a:cubicBezTo>
                <a:cubicBezTo>
                  <a:pt x="3735" y="6580"/>
                  <a:pt x="3796" y="6552"/>
                  <a:pt x="3845" y="6548"/>
                </a:cubicBezTo>
                <a:cubicBezTo>
                  <a:pt x="4188" y="6519"/>
                  <a:pt x="4550" y="6546"/>
                  <a:pt x="4887" y="6524"/>
                </a:cubicBezTo>
                <a:cubicBezTo>
                  <a:pt x="5050" y="6513"/>
                  <a:pt x="5235" y="6516"/>
                  <a:pt x="5383" y="6548"/>
                </a:cubicBezTo>
                <a:cubicBezTo>
                  <a:pt x="5479" y="6569"/>
                  <a:pt x="5553" y="6593"/>
                  <a:pt x="5655" y="6598"/>
                </a:cubicBezTo>
                <a:cubicBezTo>
                  <a:pt x="5715" y="6601"/>
                  <a:pt x="5754" y="6618"/>
                  <a:pt x="5804" y="6623"/>
                </a:cubicBezTo>
                <a:cubicBezTo>
                  <a:pt x="5829" y="6625"/>
                  <a:pt x="5854" y="6622"/>
                  <a:pt x="5879" y="6623"/>
                </a:cubicBezTo>
                <a:cubicBezTo>
                  <a:pt x="5881" y="6623"/>
                  <a:pt x="5920" y="6645"/>
                  <a:pt x="5953" y="6648"/>
                </a:cubicBezTo>
                <a:cubicBezTo>
                  <a:pt x="6171" y="6671"/>
                  <a:pt x="6404" y="6648"/>
                  <a:pt x="6623" y="6648"/>
                </a:cubicBezTo>
                <a:cubicBezTo>
                  <a:pt x="6625" y="6648"/>
                  <a:pt x="6664" y="6626"/>
                  <a:pt x="6697" y="6623"/>
                </a:cubicBezTo>
                <a:cubicBezTo>
                  <a:pt x="7280" y="6562"/>
                  <a:pt x="7959" y="6600"/>
                  <a:pt x="8533" y="6648"/>
                </a:cubicBezTo>
                <a:cubicBezTo>
                  <a:pt x="8647" y="6658"/>
                  <a:pt x="8766" y="6648"/>
                  <a:pt x="8880" y="6648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16200" y="2500200"/>
            <a:ext cx="1009800" cy="54000"/>
          </a:xfrm>
          <a:custGeom>
            <a:avLst/>
            <a:gdLst/>
            <a:ahLst/>
            <a:rect l="l" t="t" r="r" b="b"/>
            <a:pathLst>
              <a:path w="2804" h="150">
                <a:moveTo>
                  <a:pt x="10046" y="6945"/>
                </a:moveTo>
                <a:cubicBezTo>
                  <a:pt x="10084" y="6955"/>
                  <a:pt x="10143" y="6967"/>
                  <a:pt x="10170" y="6995"/>
                </a:cubicBezTo>
                <a:cubicBezTo>
                  <a:pt x="10216" y="7042"/>
                  <a:pt x="10196" y="7017"/>
                  <a:pt x="10244" y="7045"/>
                </a:cubicBezTo>
                <a:cubicBezTo>
                  <a:pt x="10278" y="7065"/>
                  <a:pt x="10297" y="7045"/>
                  <a:pt x="10344" y="7069"/>
                </a:cubicBezTo>
                <a:cubicBezTo>
                  <a:pt x="10367" y="7080"/>
                  <a:pt x="10386" y="7091"/>
                  <a:pt x="10443" y="7094"/>
                </a:cubicBezTo>
                <a:cubicBezTo>
                  <a:pt x="10518" y="7098"/>
                  <a:pt x="10588" y="7069"/>
                  <a:pt x="10666" y="7069"/>
                </a:cubicBezTo>
                <a:cubicBezTo>
                  <a:pt x="10752" y="7069"/>
                  <a:pt x="10810" y="7033"/>
                  <a:pt x="10889" y="7020"/>
                </a:cubicBezTo>
                <a:cubicBezTo>
                  <a:pt x="11086" y="6987"/>
                  <a:pt x="11402" y="6992"/>
                  <a:pt x="11584" y="7045"/>
                </a:cubicBezTo>
                <a:cubicBezTo>
                  <a:pt x="11670" y="7070"/>
                  <a:pt x="11743" y="7069"/>
                  <a:pt x="11832" y="7069"/>
                </a:cubicBezTo>
                <a:cubicBezTo>
                  <a:pt x="11974" y="7069"/>
                  <a:pt x="12126" y="7061"/>
                  <a:pt x="12254" y="7045"/>
                </a:cubicBezTo>
                <a:cubicBezTo>
                  <a:pt x="12446" y="7021"/>
                  <a:pt x="12655" y="7045"/>
                  <a:pt x="12849" y="7045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73720" y="2428920"/>
            <a:ext cx="134640" cy="36360"/>
          </a:xfrm>
          <a:custGeom>
            <a:avLst/>
            <a:gdLst/>
            <a:ahLst/>
            <a:rect l="l" t="t" r="r" b="b"/>
            <a:pathLst>
              <a:path w="373" h="100">
                <a:moveTo>
                  <a:pt x="12427" y="6772"/>
                </a:moveTo>
                <a:cubicBezTo>
                  <a:pt x="12452" y="6772"/>
                  <a:pt x="12460" y="6772"/>
                  <a:pt x="12477" y="6772"/>
                </a:cubicBezTo>
                <a:cubicBezTo>
                  <a:pt x="12490" y="6732"/>
                  <a:pt x="12495" y="6747"/>
                  <a:pt x="12551" y="6747"/>
                </a:cubicBezTo>
                <a:cubicBezTo>
                  <a:pt x="12565" y="6789"/>
                  <a:pt x="12599" y="6772"/>
                  <a:pt x="12650" y="6772"/>
                </a:cubicBezTo>
                <a:cubicBezTo>
                  <a:pt x="12662" y="6806"/>
                  <a:pt x="12658" y="6796"/>
                  <a:pt x="12700" y="6796"/>
                </a:cubicBezTo>
                <a:cubicBezTo>
                  <a:pt x="12713" y="6836"/>
                  <a:pt x="12712" y="6806"/>
                  <a:pt x="12725" y="6846"/>
                </a:cubicBezTo>
                <a:cubicBezTo>
                  <a:pt x="12766" y="6846"/>
                  <a:pt x="12774" y="6846"/>
                  <a:pt x="12799" y="6846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91000" y="2411280"/>
            <a:ext cx="100080" cy="17640"/>
          </a:xfrm>
          <a:custGeom>
            <a:avLst/>
            <a:gdLst/>
            <a:ahLst/>
            <a:rect l="l" t="t" r="r" b="b"/>
            <a:pathLst>
              <a:path w="274" h="51">
                <a:moveTo>
                  <a:pt x="12477" y="6747"/>
                </a:moveTo>
                <a:cubicBezTo>
                  <a:pt x="12502" y="6747"/>
                  <a:pt x="12526" y="6747"/>
                  <a:pt x="12551" y="6747"/>
                </a:cubicBezTo>
                <a:cubicBezTo>
                  <a:pt x="12561" y="6718"/>
                  <a:pt x="12585" y="6702"/>
                  <a:pt x="12626" y="6697"/>
                </a:cubicBezTo>
                <a:cubicBezTo>
                  <a:pt x="12650" y="6697"/>
                  <a:pt x="12659" y="6697"/>
                  <a:pt x="12675" y="6697"/>
                </a:cubicBezTo>
                <a:cubicBezTo>
                  <a:pt x="12688" y="6735"/>
                  <a:pt x="12705" y="6722"/>
                  <a:pt x="12750" y="6722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13320" y="2500200"/>
            <a:ext cx="1420920" cy="17640"/>
          </a:xfrm>
          <a:custGeom>
            <a:avLst/>
            <a:gdLst/>
            <a:ahLst/>
            <a:rect l="l" t="t" r="r" b="b"/>
            <a:pathLst>
              <a:path w="3945" h="51">
                <a:moveTo>
                  <a:pt x="17537" y="6970"/>
                </a:moveTo>
                <a:cubicBezTo>
                  <a:pt x="17573" y="6973"/>
                  <a:pt x="17611" y="6992"/>
                  <a:pt x="17636" y="6995"/>
                </a:cubicBezTo>
                <a:cubicBezTo>
                  <a:pt x="17748" y="7008"/>
                  <a:pt x="17870" y="6995"/>
                  <a:pt x="17983" y="6995"/>
                </a:cubicBezTo>
                <a:cubicBezTo>
                  <a:pt x="18012" y="6986"/>
                  <a:pt x="18066" y="6970"/>
                  <a:pt x="18132" y="6970"/>
                </a:cubicBezTo>
                <a:cubicBezTo>
                  <a:pt x="18380" y="6970"/>
                  <a:pt x="18628" y="6970"/>
                  <a:pt x="18876" y="6970"/>
                </a:cubicBezTo>
                <a:cubicBezTo>
                  <a:pt x="18889" y="6966"/>
                  <a:pt x="18907" y="6947"/>
                  <a:pt x="18951" y="6945"/>
                </a:cubicBezTo>
                <a:cubicBezTo>
                  <a:pt x="19041" y="6941"/>
                  <a:pt x="19116" y="6961"/>
                  <a:pt x="19199" y="6970"/>
                </a:cubicBezTo>
                <a:cubicBezTo>
                  <a:pt x="19822" y="7040"/>
                  <a:pt x="20603" y="7021"/>
                  <a:pt x="21208" y="6945"/>
                </a:cubicBezTo>
                <a:cubicBezTo>
                  <a:pt x="21296" y="6934"/>
                  <a:pt x="21392" y="6945"/>
                  <a:pt x="21481" y="6945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48240" y="2616120"/>
            <a:ext cx="46080" cy="1800"/>
          </a:xfrm>
          <a:custGeom>
            <a:avLst/>
            <a:gdLst/>
            <a:ahLst/>
            <a:rect l="l" t="t" r="r" b="b"/>
            <a:pathLst>
              <a:path w="125" h="1">
                <a:moveTo>
                  <a:pt x="17636" y="7268"/>
                </a:moveTo>
                <a:cubicBezTo>
                  <a:pt x="17677" y="7268"/>
                  <a:pt x="17719" y="7268"/>
                  <a:pt x="17760" y="7268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6720" y="2598840"/>
            <a:ext cx="231480" cy="9360"/>
          </a:xfrm>
          <a:custGeom>
            <a:avLst/>
            <a:gdLst/>
            <a:ahLst/>
            <a:rect l="l" t="t" r="r" b="b"/>
            <a:pathLst>
              <a:path w="645" h="26">
                <a:moveTo>
                  <a:pt x="18852" y="7218"/>
                </a:moveTo>
                <a:cubicBezTo>
                  <a:pt x="18891" y="7228"/>
                  <a:pt x="18906" y="7243"/>
                  <a:pt x="18951" y="7243"/>
                </a:cubicBezTo>
                <a:cubicBezTo>
                  <a:pt x="19133" y="7243"/>
                  <a:pt x="19314" y="7243"/>
                  <a:pt x="19496" y="7243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9880" y="2963880"/>
            <a:ext cx="1633320" cy="73080"/>
          </a:xfrm>
          <a:custGeom>
            <a:avLst/>
            <a:gdLst/>
            <a:ahLst/>
            <a:rect l="l" t="t" r="r" b="b"/>
            <a:pathLst>
              <a:path w="4540" h="200">
                <a:moveTo>
                  <a:pt x="2332" y="8310"/>
                </a:moveTo>
                <a:cubicBezTo>
                  <a:pt x="2376" y="8303"/>
                  <a:pt x="2393" y="8297"/>
                  <a:pt x="2431" y="8285"/>
                </a:cubicBezTo>
                <a:cubicBezTo>
                  <a:pt x="2470" y="8272"/>
                  <a:pt x="2516" y="8272"/>
                  <a:pt x="2555" y="8260"/>
                </a:cubicBezTo>
                <a:cubicBezTo>
                  <a:pt x="2587" y="8250"/>
                  <a:pt x="2624" y="8238"/>
                  <a:pt x="2654" y="8235"/>
                </a:cubicBezTo>
                <a:cubicBezTo>
                  <a:pt x="2754" y="8226"/>
                  <a:pt x="2857" y="8240"/>
                  <a:pt x="2952" y="8260"/>
                </a:cubicBezTo>
                <a:cubicBezTo>
                  <a:pt x="3000" y="8270"/>
                  <a:pt x="3055" y="8271"/>
                  <a:pt x="3101" y="8285"/>
                </a:cubicBezTo>
                <a:cubicBezTo>
                  <a:pt x="3148" y="8299"/>
                  <a:pt x="3124" y="8307"/>
                  <a:pt x="3200" y="8310"/>
                </a:cubicBezTo>
                <a:cubicBezTo>
                  <a:pt x="3255" y="8312"/>
                  <a:pt x="3298" y="8319"/>
                  <a:pt x="3349" y="8334"/>
                </a:cubicBezTo>
                <a:cubicBezTo>
                  <a:pt x="3382" y="8344"/>
                  <a:pt x="3416" y="8355"/>
                  <a:pt x="3448" y="8359"/>
                </a:cubicBezTo>
                <a:cubicBezTo>
                  <a:pt x="3525" y="8368"/>
                  <a:pt x="3595" y="8381"/>
                  <a:pt x="3671" y="8384"/>
                </a:cubicBezTo>
                <a:cubicBezTo>
                  <a:pt x="3728" y="8386"/>
                  <a:pt x="3737" y="8405"/>
                  <a:pt x="3770" y="8409"/>
                </a:cubicBezTo>
                <a:cubicBezTo>
                  <a:pt x="3929" y="8426"/>
                  <a:pt x="4068" y="8383"/>
                  <a:pt x="4217" y="8359"/>
                </a:cubicBezTo>
                <a:cubicBezTo>
                  <a:pt x="4431" y="8325"/>
                  <a:pt x="4674" y="8353"/>
                  <a:pt x="4887" y="8334"/>
                </a:cubicBezTo>
                <a:cubicBezTo>
                  <a:pt x="5154" y="8310"/>
                  <a:pt x="5454" y="8332"/>
                  <a:pt x="5705" y="8359"/>
                </a:cubicBezTo>
                <a:cubicBezTo>
                  <a:pt x="5759" y="8365"/>
                  <a:pt x="5861" y="8382"/>
                  <a:pt x="5879" y="8384"/>
                </a:cubicBezTo>
                <a:cubicBezTo>
                  <a:pt x="5960" y="8394"/>
                  <a:pt x="6050" y="8400"/>
                  <a:pt x="6127" y="8409"/>
                </a:cubicBezTo>
                <a:cubicBezTo>
                  <a:pt x="6207" y="8418"/>
                  <a:pt x="6307" y="8427"/>
                  <a:pt x="6375" y="8434"/>
                </a:cubicBezTo>
                <a:cubicBezTo>
                  <a:pt x="6536" y="8451"/>
                  <a:pt x="6709" y="8434"/>
                  <a:pt x="6871" y="8434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5000" y="2963880"/>
            <a:ext cx="206280" cy="19080"/>
          </a:xfrm>
          <a:custGeom>
            <a:avLst/>
            <a:gdLst/>
            <a:ahLst/>
            <a:rect l="l" t="t" r="r" b="b"/>
            <a:pathLst>
              <a:path w="571" h="51">
                <a:moveTo>
                  <a:pt x="6127" y="8235"/>
                </a:moveTo>
                <a:cubicBezTo>
                  <a:pt x="6177" y="8235"/>
                  <a:pt x="6185" y="8246"/>
                  <a:pt x="6226" y="8260"/>
                </a:cubicBezTo>
                <a:cubicBezTo>
                  <a:pt x="6280" y="8278"/>
                  <a:pt x="6366" y="8260"/>
                  <a:pt x="6424" y="8260"/>
                </a:cubicBezTo>
                <a:cubicBezTo>
                  <a:pt x="6437" y="8298"/>
                  <a:pt x="6454" y="8285"/>
                  <a:pt x="6499" y="8285"/>
                </a:cubicBezTo>
                <a:cubicBezTo>
                  <a:pt x="6565" y="8285"/>
                  <a:pt x="6631" y="8285"/>
                  <a:pt x="6697" y="8285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57160" y="3071880"/>
            <a:ext cx="608040" cy="27000"/>
          </a:xfrm>
          <a:custGeom>
            <a:avLst/>
            <a:gdLst/>
            <a:ahLst/>
            <a:rect l="l" t="t" r="r" b="b"/>
            <a:pathLst>
              <a:path w="1688" h="75">
                <a:moveTo>
                  <a:pt x="2381" y="8607"/>
                </a:moveTo>
                <a:cubicBezTo>
                  <a:pt x="2417" y="8593"/>
                  <a:pt x="2438" y="8586"/>
                  <a:pt x="2480" y="8582"/>
                </a:cubicBezTo>
                <a:cubicBezTo>
                  <a:pt x="2488" y="8582"/>
                  <a:pt x="2497" y="8582"/>
                  <a:pt x="2505" y="8582"/>
                </a:cubicBezTo>
                <a:cubicBezTo>
                  <a:pt x="2528" y="8569"/>
                  <a:pt x="2530" y="8562"/>
                  <a:pt x="2580" y="8558"/>
                </a:cubicBezTo>
                <a:cubicBezTo>
                  <a:pt x="2588" y="8558"/>
                  <a:pt x="2596" y="8558"/>
                  <a:pt x="2604" y="8558"/>
                </a:cubicBezTo>
                <a:cubicBezTo>
                  <a:pt x="2628" y="8544"/>
                  <a:pt x="2626" y="8535"/>
                  <a:pt x="2679" y="8533"/>
                </a:cubicBezTo>
                <a:cubicBezTo>
                  <a:pt x="2866" y="8524"/>
                  <a:pt x="3078" y="8524"/>
                  <a:pt x="3249" y="8558"/>
                </a:cubicBezTo>
                <a:cubicBezTo>
                  <a:pt x="3282" y="8565"/>
                  <a:pt x="3323" y="8577"/>
                  <a:pt x="3349" y="8582"/>
                </a:cubicBezTo>
                <a:cubicBezTo>
                  <a:pt x="3428" y="8597"/>
                  <a:pt x="3507" y="8571"/>
                  <a:pt x="3572" y="8558"/>
                </a:cubicBezTo>
                <a:cubicBezTo>
                  <a:pt x="3726" y="8528"/>
                  <a:pt x="3910" y="8558"/>
                  <a:pt x="4068" y="8558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вна гра «Коректор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читати приказки. Відновити їх зміст, уставивши на місці крапок відповідні займен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авичка на … корені рос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Щастя знає, … шукає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 лиш курка від …гр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н … , а розум в … …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лується … …, як чорт писанк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… стільки правди, як у решеті во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відка: всяка, кого, своєму, мій, себе, свій, нього, кого, сам собою,нього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сяка травичка на своєму корені росте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Щастя знає, кого шукає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о лиш курка від себе гребе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Син мій, а розум в нього свій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илується сам собою, як чорт писанкою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 нього стільки правди, як у решеті вод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Навчай інших –                                               того за плечима не носи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Хто багато робив,                                           то вона од тебе на сажень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Хто знання має,                                               що на обидві руки кує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Чого навчишся -                                              того й Іван не буде зна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Добре тому ковалеві,                                       і сам навчишс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Як одступиш од грамоти на аршин,               тому треба мало спа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Хто хоче багато знати,                                    той і багато знає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Чого Івась не навчиться,                                 той мур зламає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вчай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ших-і сам навчиш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то багато робив, той мур зламає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то знання має, той і багато знає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Чого навчишся - того за плечима не носи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бре тому ковалеві, що на обидві руки кує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к одступиш од грамоти на аршин, то вона од тебе на саж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то хоче багато знати, тому треба мало спа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Чого Івась не навчиться, того й Іван не буде зн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13:27:01Z</dcterms:created>
  <dc:creator>Ира</dc:creator>
  <dc:description/>
  <dc:language>en-US</dc:language>
  <cp:lastModifiedBy>Ира</cp:lastModifiedBy>
  <dcterms:modified xsi:type="dcterms:W3CDTF">2013-02-25T18:09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